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70BD-0D4B-4B7C-85F1-3C1471576B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DA06-58AB-4D7C-9CF0-1EC42D1F4D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8DA4-574F-4DA6-8ACB-8761D8BBA1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6D72-3F5D-4EEC-B040-6FF7638D8A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C04B-8805-4F9F-BEB5-2EF33C952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AAC3-77D4-44E7-ABE0-D496693C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CEDC-2497-4DDF-A836-AD8DDC1A7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C4B1-E9BC-4F78-A484-10465F550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7684-AD1B-4615-ADB9-2D424F45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D3C3-56A8-4C64-8A6B-BF919852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3D64-29F9-40DE-BE50-15CA1EC6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2E76-F075-43CE-A1E8-BEC2F3CA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35B8-DCDA-496A-AC1C-FABB197F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B95E-1C2D-46E4-9B09-EFB374D8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0848-DC4E-49D6-AEBC-5CDF0F5D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4061-B188-422A-B214-4F4FB247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ACC6-CFA4-4F78-A9C6-0E5D020391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P_evs_logo"/>
          <p:cNvPicPr/>
          <p:nvPr/>
        </p:nvPicPr>
        <p:blipFill>
          <a:blip r:embed="rId1"/>
          <a:stretch/>
        </p:blipFill>
        <p:spPr>
          <a:xfrm>
            <a:off x="5562720" y="0"/>
            <a:ext cx="3581280" cy="992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1785600"/>
            <a:ext cx="77724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cc0000"/>
                </a:solidFill>
                <a:latin typeface="Times New Roman"/>
              </a:rPr>
              <a:t>The European Values Study and its metadata: stock taking and the fu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32000" y="3645000"/>
            <a:ext cx="64008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uud Luijk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ilburg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/Third wave 1990/1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dified replication of 198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re countries from Western and Eastern Europ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In 1999 also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ew issu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id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cial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oc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 et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LOGO-EVS"/>
          <p:cNvPicPr/>
          <p:nvPr/>
        </p:nvPicPr>
        <p:blipFill>
          <a:blip r:embed="rId1"/>
          <a:stretch/>
        </p:blipFill>
        <p:spPr>
          <a:xfrm>
            <a:off x="5943600" y="0"/>
            <a:ext cx="320040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urth wave 20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argely a replication of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countries of Europe (with more than 100,000 inhabitan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ess of the field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re emphasis on high quality socio-demographic (background)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 quality translation of the questionna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LOGO-EVS"/>
          <p:cNvPicPr/>
          <p:nvPr/>
        </p:nvPicPr>
        <p:blipFill>
          <a:blip r:embed="rId1"/>
          <a:stretch/>
        </p:blipFill>
        <p:spPr>
          <a:xfrm>
            <a:off x="5943600" y="0"/>
            <a:ext cx="320040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BE5F-ABC9-4AC9-97D0-17113759E5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colleagues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World Values Surv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rd wave” (1995-199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urth wave” (2000-200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ifth wave”(2005-200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verlap in the questionnaire is about 6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LOGO-EVS"/>
          <p:cNvPicPr/>
          <p:nvPr/>
        </p:nvPicPr>
        <p:blipFill>
          <a:blip r:embed="rId1"/>
          <a:stretch/>
        </p:blipFill>
        <p:spPr>
          <a:xfrm>
            <a:off x="5943600" y="0"/>
            <a:ext cx="3200400" cy="766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wvs"/>
          <p:cNvPicPr/>
          <p:nvPr/>
        </p:nvPicPr>
        <p:blipFill>
          <a:blip r:embed="rId2"/>
          <a:stretch/>
        </p:blipFill>
        <p:spPr>
          <a:xfrm>
            <a:off x="7219800" y="6043680"/>
            <a:ext cx="192420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ata dissemmin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hrough data arch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SIS is the primary data archive for EV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1981 originally at UK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1990 at D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or/in 1981/1990 only data and questionnaires (later in pdf-format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400" y="6091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(Meta) data 1999</a:t>
            </a: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13880" y="1785960"/>
            <a:ext cx="77439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ESIS Codebook explo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ESIS ZAC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udy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bliographic ci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Study sc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Methodology and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ata-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ta Files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400" y="6091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(Meta) data 1999—GESIS ZAC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13880" y="1785960"/>
            <a:ext cx="77439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arative questions (master questionnaire) with 1981 and 19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iginal question wordings for all languages: question texts, answer categories, and show cards of the questionnai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planatory notes concerning differences between national and master questionnaire, difficulties arising from translation, and additional questions used in the national questionnaires were ad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http://zacat.gesis.org/webview/index.jsp</a:t>
            </a:r>
            <a:br>
              <a:rPr sz="2800"/>
            </a:b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armonising different wa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00120"/>
            <a:ext cx="777240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2006 a harmonised data set was released after (post hoc) harmonisation of all Value Surveys since 1981 (ASEP/JDS, EVS-Tilburg, GESI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all Value Surveys available on l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ate simple analy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seminate all docu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b sites where data are availab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VS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www.europeanvaluesstudy.eu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SEP/JDS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www.jdsurvey.n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VS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er from WV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LSO HARMONISING META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LOGO-EVS"/>
          <p:cNvPicPr/>
          <p:nvPr/>
        </p:nvPicPr>
        <p:blipFill>
          <a:blip r:embed="rId1"/>
          <a:stretch/>
        </p:blipFill>
        <p:spPr>
          <a:xfrm>
            <a:off x="5943600" y="0"/>
            <a:ext cx="320040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Meta data 20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mproved presentation on ZAC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cluding more notes from the translation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ataplu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sitories for Enhanced Survey Pub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6040" y="1125000"/>
            <a:ext cx="7711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pl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16040" y="1989000"/>
            <a:ext cx="771192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ded by Surf Foun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ate 2 subject repositories with enriched pub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ides European Values Study (EVS), also Dutch Parliamentary Election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riched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ax codes of constructs, conc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s to (meta) data (at the variable level)—persistent identifier iss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6040" y="1125000"/>
            <a:ext cx="7711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Work Pack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42600" y="1989000"/>
            <a:ext cx="7785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2: INPUT: Enhanced Publications (EVS, DP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: A Sustainable Library Infrastructure for Enhanced Publications: LIS (Tilburg University) Library Twente (presentation Thomas Pl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: DDI 3.0 Enhanced Publication Editor: CentERdata (Tilburg University); presentation Bart van Nieuwbu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: Linking to (Meta) Data Stored in Data Archives (GESIS, DA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PP_evs_logo"/>
          <p:cNvPicPr/>
          <p:nvPr/>
        </p:nvPicPr>
        <p:blipFill>
          <a:blip r:embed="rId1"/>
          <a:stretch/>
        </p:blipFill>
        <p:spPr>
          <a:xfrm>
            <a:off x="5562720" y="0"/>
            <a:ext cx="3581280" cy="9921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European </a:t>
            </a:r>
            <a:r>
              <a:rPr b="1" i="1" lang="nl-NL" sz="4400" spc="-1" strike="noStrike">
                <a:solidFill>
                  <a:srgbClr val="cc0000"/>
                </a:solidFill>
                <a:latin typeface="Times New Roman"/>
              </a:rPr>
              <a:t>Values</a:t>
            </a: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 Stu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2997000"/>
            <a:ext cx="7416720" cy="18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 longitudinal and international comparative survey research project on basic human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cc0000"/>
                </a:solidFill>
                <a:uFillTx/>
                <a:latin typeface="Times New Roman"/>
              </a:rPr>
              <a:t>www.europeanvaluesstudy.e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6040" y="1125000"/>
            <a:ext cx="7711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iver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16040" y="1916280"/>
            <a:ext cx="77119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subject repositories with enriched pub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Publication Edit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rastructure compatible with existing repository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64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cc0000"/>
                </a:solidFill>
                <a:latin typeface="Times New Roman"/>
              </a:rPr>
              <a:t>Future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5840" y="1714320"/>
            <a:ext cx="850104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ake more meta data available in a more coordinated 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Use version control of (meta)data—also cross linking data rel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urther integration of publications an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tegration of data from different sources (macro indicato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PP_evs_logo"/>
          <p:cNvPicPr/>
          <p:nvPr/>
        </p:nvPicPr>
        <p:blipFill>
          <a:blip r:embed="rId1"/>
          <a:stretch/>
        </p:blipFill>
        <p:spPr>
          <a:xfrm>
            <a:off x="5562720" y="0"/>
            <a:ext cx="35812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rt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wave: 198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pean Countries: France, Great Britain, West Germany, Italy, Spain, Netherlands, Belgium, Denmark, Norway, Sweden, Northern Ireland, Ireland, Ice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European Countries: Canada, 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LOGO-EVS"/>
          <p:cNvPicPr/>
          <p:nvPr/>
        </p:nvPicPr>
        <p:blipFill>
          <a:blip r:embed="rId1"/>
          <a:stretch/>
        </p:blipFill>
        <p:spPr>
          <a:xfrm>
            <a:off x="5943600" y="0"/>
            <a:ext cx="320040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iginal Research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Europeans share common valu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values chang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Christian values continue to permeate European life and cultu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coherent alternative meaning system replacing that of Christian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implications for European un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LOGO-EVS"/>
          <p:cNvPicPr/>
          <p:nvPr/>
        </p:nvPicPr>
        <p:blipFill>
          <a:blip r:embed="rId1"/>
          <a:stretch/>
        </p:blipFill>
        <p:spPr>
          <a:xfrm>
            <a:off x="5943600" y="0"/>
            <a:ext cx="320040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S questionnaire su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elig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r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oli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oci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amily &amp; marri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ex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eisur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LOGO-EVS"/>
          <p:cNvPicPr/>
          <p:nvPr/>
        </p:nvPicPr>
        <p:blipFill>
          <a:blip r:embed="rId1"/>
          <a:stretch/>
        </p:blipFill>
        <p:spPr>
          <a:xfrm>
            <a:off x="5943600" y="0"/>
            <a:ext cx="320040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7" descr="1981B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1990B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1999B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6" descr="2008 B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7:15:16Z</dcterms:created>
  <dc:creator>Loek Halman</dc:creator>
  <dc:description/>
  <dc:language>en-US</dc:language>
  <cp:lastModifiedBy>Ruud Luijkx</cp:lastModifiedBy>
  <dcterms:modified xsi:type="dcterms:W3CDTF">2009-04-02T08:15:20Z</dcterms:modified>
  <cp:revision>88</cp:revision>
  <dc:subject/>
  <dc:title>Dia 1</dc:title>
</cp:coreProperties>
</file>