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371036-D2C8-4F5E-8943-B4FD3DBFF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et of specifications for socio-eco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comes to implementation, these are complemented with commonly used ICT specifications such as the XML family of recommendations, SOAP, OASIS WS-* security specifications, SV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4BB-110A-4216-9431-2448F747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3856680"/>
            <a:ext cx="761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858-CD40-4346-B7AB-A1D4932E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35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A30-95C7-4462-BA80-73AE93BE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5840" y="99072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2360" y="99072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385668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5840" y="385668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2360" y="385668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661-B9F5-4BDF-9FE6-0F0A9531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E644-33BC-482E-842B-BC02FCFD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767B-3295-4AAD-B67E-A7C04AC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70E-D539-491A-98B6-ED3DCA8C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B449-DEC9-4E61-B148-0AA0DF01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834A-A689-4102-AA36-9D31EC4E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82B-448E-46C9-86DE-C5B9FE4E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193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D659-28F8-40FC-A671-C8D2B79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429-82B3-46A3-9968-18D11274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235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D2E3-E1E1-4934-92EA-C269CEE7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9320" y="3856680"/>
            <a:ext cx="761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86BD-87D4-4F56-AE18-79A8811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19320" y="3856680"/>
            <a:ext cx="761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31B2-2C12-45EB-8E1F-7D532785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93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235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C51A-5169-46DC-A098-23EA5DEA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95840" y="99072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72360" y="99072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19320" y="385668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95840" y="385668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72360" y="3856680"/>
            <a:ext cx="245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156-DC4C-4131-8E97-66ABD3AD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C6D-45E2-4C33-8AFE-6EC9A281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387-E190-4CDB-917B-08584DB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34A-37FB-4C26-996A-AFCB9685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CF9-73FF-4820-A1BA-591CE02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9FB-A43A-42A5-A19B-86D42A06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3520" y="385668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2B9-8913-4E76-AD10-1383370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3520" y="990720"/>
            <a:ext cx="371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3856680"/>
            <a:ext cx="761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B8E-B1E3-4EF9-A0C8-154A11F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62120" y="0"/>
            <a:ext cx="1600200" cy="6858000"/>
          </a:xfrm>
          <a:prstGeom prst="ellipse">
            <a:avLst/>
          </a:prstGeom>
          <a:gradFill rotWithShape="0">
            <a:gsLst>
              <a:gs pos="0">
                <a:srgbClr val="bde8fb">
                  <a:alpha val="60392"/>
                </a:srgbClr>
              </a:gs>
              <a:gs pos="100000">
                <a:srgbClr val="333399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ttp://www.opendatafoundation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440" y="6629040"/>
            <a:ext cx="6248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DaF Euope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6290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heus@opendatafoundation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50760"/>
            <a:ext cx="866880" cy="666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3997" t="23363" r="72009" b="0"/>
          <a:stretch/>
        </p:blipFill>
        <p:spPr>
          <a:xfrm>
            <a:off x="8153280" y="95400"/>
            <a:ext cx="91440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C08C-A17E-4735-9339-4F528C5B6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pendatafoundation.org/" TargetMode="External"/><Relationship Id="rId2" Type="http://schemas.openxmlformats.org/officeDocument/2006/relationships/hyperlink" Target="mailto:info@opendatafoundation.or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dialliance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DaF Europe 2009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irtual Research and Collaborative Cent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1814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cal He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Data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 Mulcahy, National Opinion Research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pendatafoundation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info@opendatafoundation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81280" y="4495680"/>
            <a:ext cx="86688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3997" t="23363" r="72009" b="0"/>
          <a:stretch/>
        </p:blipFill>
        <p:spPr>
          <a:xfrm>
            <a:off x="4572000" y="4629240"/>
            <a:ext cx="914400" cy="438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962520" y="457200"/>
            <a:ext cx="1218960" cy="73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705120" y="1371600"/>
            <a:ext cx="1704960" cy="81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iscovery Tools: My Profil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ing for data or documents is a significant effort for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metadata driven system can greatly alleviate by bringing the information to the user (rather than the other way a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er profile will provide various subscription and notification tools based on research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 becomes available on a specific topic or from a particular author/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r updated data becomes available on a specific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research paper published using a specif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arch project looking for collaborator or revie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llaborative: Catalog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enter community space will contain several catalogs, libraries,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t will be derived automatically from research projects or contributed by users/provi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catalog: simple and complex search for  dataset / variables based on survey, time ,geography, topic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 library: searchable collections of research papers, survey documentation, references/methodologi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t library: statistical programs shared by projects/users searchable by dataset, languag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er directory: lookup other researchers by interest, profile, expertis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directory: completed, ongoing and future research projects. Also a place to advertise research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llaborative: Too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: classic community driven knowledge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of the content will be seeded automatically from DDI metadata to create pages per survey, file, variabl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c tools: FAQ, news, events/calendar, chat, discussion for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ive tagg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ksonomies to capture researcher perspective/feedback at the survey, dataset, variabl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ing/comments on papers, datas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likely mo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dministration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ous management tools will b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usage: most user variables, popular research topics, quality feedback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usage: hits/visits, number of active projects, new papers, secondary datas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/ metadata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/Grou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mplementation strateg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etadata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 as open source product (and leverage on O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ice base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rtual / cloud server environment to ensure scalability (processing and stor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ular system to allow for increment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 upon other ongoing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only a technological chalenge: need also to address organizational / leg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tatus / Next ste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at initial stage (concept n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nership NORC, ODaF and other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likely start at NORC using the General Social Survey (GSS) and possibly other public us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discussion with other produ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for prototype 4Q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options being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for non-publ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harmonization/comparabilit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 functionalities to aggregate data (SDM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 to geography (ISO 19115 and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 statistical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 disclosure contro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nclus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build innovative tools to provide a dynamic environment to perform research on survey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metadata and open technology standards to ensure a gener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sharing and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preservation and dissemination of research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collaboration and support community driven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better understanding on the usage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urther information,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Mulcahy, National Opinion Research Center (NORC), Mulcahy-Tim@nor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 Heus, Open Data Foundation (ODaF), pheus@opendatafoundation.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ML metadata specifications for socio-economic dat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ata and Metadata Exchange (SD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data, time series, indicators,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dmx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Documentation Initiative (D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data (surveys, stud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://www.ddiallian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1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modeling, concepts,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etadata-standards.org/1117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19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sotc211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(documentation, images, multim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ublinco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Data Documentation Initiative (DDI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XML based specification for the documentation of social and behavior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1995, now driven by DDI Alliance (30+ me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XML specification in 2000 (v1.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2.1 with focus on archiving (survey/codeb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ersion 3.0 (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ntire survey “Life Cyc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omprehensive metadata on the entire survey process and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ed on other metadata standards (DC, MARC, ISO 11179, SDMX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machine actionable elements to facilitate processing, discovery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dialliance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and for socio-economic data has grown dramatically in the past 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ivity / network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ization / Economic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 to microdata ha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 archiving /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option of metadata standards such as DDI and relate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many challenges re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overy, access remain an issue (lack of visi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bility: documentation is still an issue, complexity of datasets is a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community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 are still typically made available using simple / static web bas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lack of researchers tools that leverage on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utting some ideas together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driven virtual spaces are now very 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networking is widely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driven knowledge management works (for large 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number of public dataset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ys can now be easily be documented using the Data Documentation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related XML technologies can significantly automate tasks and maintain linkages across the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needs are different from the producer’s: they have a custom view of the data (their pro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s should be preserved / captured / shared (not limited to a 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community space to foster dialog / share knowledge (within and outside research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Virtual Research and Collaborative Cen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 beyond the static web site to provide dynamic, virtual research within a collaborative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rage on Internet / XML technologies and metadat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virtual access to public use data (glob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-based remote access: for discovery, analysis,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analytical tools: data and documentation cust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anced collaboration, communication and dissemination tools: community knowledge capture, collaboration, social networking, information sharing/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DDI metadata and relate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rage on Web 2.0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research orient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 upon open sourc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1219320"/>
            <a:ext cx="3962520" cy="358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1219320"/>
            <a:ext cx="3962160" cy="358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600200"/>
            <a:ext cx="3657600" cy="77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Data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custom view of the data for use in project or sharing with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362320"/>
            <a:ext cx="3657600" cy="77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together researchers in a virtual environment to share research ideas, data, documentation, and scrip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124080"/>
            <a:ext cx="3657600" cy="77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 research outputs (papers, documents, scripts/programs, secondary data) for preservation, dissemination and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886200"/>
            <a:ext cx="3657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 individual background information, research interests, set privacy options and configure notifications servi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600200"/>
            <a:ext cx="3657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ture knowledge surrounding the data. Initial content will be seeded with survey meta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3124080"/>
            <a:ext cx="3657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nts and news, Community driven discussion groups, FAQ/Answers, C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362320"/>
            <a:ext cx="36576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able libraries of papers/references/documentation, scripts/programs, primary and secondary data. Most of the content is extracted automatically from the research spa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886200"/>
            <a:ext cx="3657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er Directory, Project Directory, Call for collaboration, Notification, Support,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952880"/>
            <a:ext cx="3276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mary and researcher data and metadata storage, databases, security (access, backups), web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791320"/>
            <a:ext cx="3276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nd data usage reports, data/metadata management, user administration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80880"/>
            <a:ext cx="3352680" cy="69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, background information, contact, simple access to public data and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04" idx="0"/>
          </p:cNvCxnSpPr>
          <p:nvPr/>
        </p:nvCxnSpPr>
        <p:spPr>
          <a:xfrm flipV="1" rot="10800000">
            <a:off x="3047400" y="728640"/>
            <a:ext cx="381600" cy="48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6" idx="3"/>
            <a:endCxn id="105" idx="0"/>
          </p:cNvCxnSpPr>
          <p:nvPr/>
        </p:nvCxnSpPr>
        <p:spPr>
          <a:xfrm>
            <a:off x="6781320" y="729720"/>
            <a:ext cx="305640" cy="48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5" idx="2"/>
            <a:endCxn id="114" idx="3"/>
          </p:cNvCxnSpPr>
          <p:nvPr/>
        </p:nvCxnSpPr>
        <p:spPr>
          <a:xfrm rot="5400000">
            <a:off x="6666840" y="4838760"/>
            <a:ext cx="4579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"/>
          <p:cNvCxnSpPr>
            <a:stCxn id="104" idx="2"/>
            <a:endCxn id="114" idx="1"/>
          </p:cNvCxnSpPr>
          <p:nvPr/>
        </p:nvCxnSpPr>
        <p:spPr>
          <a:xfrm flipH="1" rot="16200000">
            <a:off x="3009960" y="4838400"/>
            <a:ext cx="4579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4" idx="2"/>
            <a:endCxn id="115" idx="0"/>
          </p:cNvCxnSpPr>
          <p:nvPr/>
        </p:nvCxnSpPr>
        <p:spPr>
          <a:xfrm flipV="1" rot="10800000">
            <a:off x="5066640" y="55623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General featur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thing is publicly available (read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ered users can manage research projects and contribute to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ration will likely be based on OpenID (no need to create a new 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will optionally provide (with privacy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graphics: name, nickname, email, soci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iliations: institutions, memb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nalytical Tool: My Datase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er rarely use the full set of variables available in a single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ead derived a “virtual” dataset off one of more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ption of virtual dataset can be captured using DDI lik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ts to generate that particular view can then get automatically created for various statistica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s the complexity of merging, filtering, recod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t of statistical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ized documentation can be produced dynamic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rtual datasets can be versioned, shared with other, refreshed with new dat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also provides valuable usage information to data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nalytical Tools: My Projec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virtual space for resear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s together virtual datasets, documents, scripts, outputs, collaborativ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Investigator can bring in 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ledge exchange tools: blog, IM, optional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 sharing tool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: referenced, research,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tations: within and outsid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ts: shared research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ary data: microdata and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marked for preservation / dissemination (see My Pub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draw from community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description contains topics that provides valuable metadata for usage and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issemination Tools: My Public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ly research output is a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insufficient to meet Gary King’s Replication Stand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ds to poor preservation and r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tool to package as enhanced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preservation: contains everything that needs to be archived (from My Pro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dissemination: contains all necessary information to reproduce research process (not just the pa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 in projects can be marked for archiving and/or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a metadata can be provide for each file (Dublin Core citation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ived files will be stored for several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mination package will be made available on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pa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circulated for peer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be shared with the community, can be automatically sent to libraries, citation repositories, integrated into printed publica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ts can be automatically tagged with header, autho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can marked as intermediate, final, publi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usage, comments, ratings will be reported to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46:40Z</dcterms:created>
  <dc:creator>Pascal Heus</dc:creator>
  <dc:description/>
  <dc:language>en-US</dc:language>
  <cp:lastModifiedBy>Pascal Heus</cp:lastModifiedBy>
  <dcterms:modified xsi:type="dcterms:W3CDTF">2009-04-01T08:34:27Z</dcterms:modified>
  <cp:revision>439</cp:revision>
  <dc:subject/>
  <dc:title>Slide 1</dc:title>
</cp:coreProperties>
</file>