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4BCB-A9DF-49B6-9B4E-5153A6BB2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CA74-47D4-45D6-98A5-F6E65AD4E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3B12-2142-4559-BBC8-16D5C4786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7151-6C66-4E38-BC2A-AFD145B61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FC57-DB02-4E20-8782-1244FF53FA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C167-5FE7-4FF7-BEDC-0C795A1E12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19AD-3AA4-49F6-BBCF-0CC52BFFF6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3AD4-2B10-47D9-9371-DD7989F417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5CD5-9EF8-4BC2-8DDC-F5D9713B24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85760"/>
            <a:ext cx="82296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88A8-24CA-49CD-98D4-F3B3111F8A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723A-5432-43B5-8ABB-9227312194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ED20-7B89-44ED-A0C2-4FA1108CA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9B1F-6344-4C1B-A925-57180F5D07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C052-7DCB-4FCF-92F2-73B407586A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E69B-8895-4138-85A6-D13C16073A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13E0-6AA7-48A3-9EB4-A01611DC74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4885-0B20-43A9-92C0-7BA45EB99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A316-3F19-4AAC-A7A2-90A2A421B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7D69-38CF-499A-B481-5069F8880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8CE4-C399-4C7A-BEDC-52A3A0F86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85760"/>
            <a:ext cx="82296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7B42-D6CA-44E1-9F87-A312024ED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FC63-02A0-457D-B870-EB5475BCF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E5DA-B985-4ACB-A029-E8AF5A086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B0D9-3470-4456-A165-C2A61B927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7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641640" y="65019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0F15-ED51-44B8-B0C5-ADD634A0DA7A}" type="slidenum">
              <a:rPr b="0" lang="en-GB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770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652800" y="649728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0ECD-C47E-41DF-AA63-215C6CC862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782880" y="149400"/>
            <a:ext cx="1548000" cy="661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cb.europa.eu/stats/exchange/eurofxref/html/eurofxref-graph-usd.en.html" TargetMode="External"/><Relationship Id="rId2" Type="http://schemas.openxmlformats.org/officeDocument/2006/relationships/hyperlink" Target="http://www.ecb.europa.eu/stats/money/yc/html/index.en.html" TargetMode="External"/><Relationship Id="rId3" Type="http://schemas.openxmlformats.org/officeDocument/2006/relationships/hyperlink" Target="http://www.ecb.europa.eu/stats/prices/hicp/html/inflation.en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0584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The use of SDMX at the ECB 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86920" y="4797000"/>
            <a:ext cx="67611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Xavier Sosnovsk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uropean Central Bank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Bonn, 2009-04-02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ublication of national contributions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e problem: Need to improve the accessibility of ESCB statistics (user request)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ime-consuming task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ccessibility issu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e solution: To present euro area aggregates and national contributions in one table, simultaneously on the ECB and participating NCBs website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e benefit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Increased user-friendlines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onsistent data and present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Minimised maintenance work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7F74-47DB-4F44-977B-37FF623CCA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ublication of national contributions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echnical overview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DMX standards: SDMX-ML 1.0 Compact format data files published on the ECB websit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XSLT + a programming/scripting language (i.e.: Java, PHP, etc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Multi-channel output (HTML, CSV, etc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F6AC-3809-4601-8C8B-9E65708AA2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ublication of national contributions (3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NCBs implementations: Own added value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Localiz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atabase with wizard and personalization featur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isplay of meta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dditional download forma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B173-47DA-40AE-B985-B72D7449C0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ublication of national contributions (4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e ESCB statistics sites appear as a co-ordinated network with an entry point in all NCB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Users do not have to leave the NCB website to consult ESCB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Look and feel of NCB website is preserve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ranslation into national languag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FC0A-5EDE-4E39-B629-C4D7D30358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CB visualisation tools (1): Current ap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CB dynamic visualisation tools use SDMX-ML as format for data feeds. Example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bilateral exchange rates graph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euro area yield curv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flation dashboar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EB0D-1ABF-498E-9E4B-5823C9B55C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CB visualisation tools (2): An SDMX visualisation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evelop libraries that can be used to build visualisation tools for statistical data and meta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Written in ActionScript 3 (Flex/Flash applications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Based on the SDMX information model v. 2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642000" y="65023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A850-E3C5-4A24-892F-FB832E3DC44A}" type="slidenum">
              <a:rPr b="0" lang="en-GB" sz="11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0A9E-E4C2-4373-B871-0111145D7A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CB visualisation tools (3): An SDMX visualisation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642000" y="65023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9F01-755A-4E23-848B-BC4D65789CFB}" type="slidenum">
              <a:rPr b="0" lang="en-GB" sz="11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916360" y="1460520"/>
            <a:ext cx="3311280" cy="44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180360" y="1074600"/>
            <a:ext cx="2088000" cy="2259000"/>
            <a:chOff x="180360" y="1074600"/>
            <a:chExt cx="2088000" cy="2259000"/>
          </a:xfrm>
        </p:grpSpPr>
        <p:sp>
          <p:nvSpPr>
            <p:cNvPr id="123" name="Rectangle 6"/>
            <p:cNvSpPr/>
            <p:nvPr/>
          </p:nvSpPr>
          <p:spPr>
            <a:xfrm>
              <a:off x="250920" y="1460160"/>
              <a:ext cx="2017440" cy="187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180360" y="10746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8"/>
            <p:cNvSpPr/>
            <p:nvPr/>
          </p:nvSpPr>
          <p:spPr>
            <a:xfrm>
              <a:off x="1908000" y="2612880"/>
              <a:ext cx="289080" cy="43164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9"/>
            <p:cNvSpPr/>
            <p:nvPr/>
          </p:nvSpPr>
          <p:spPr>
            <a:xfrm>
              <a:off x="1908000" y="1749240"/>
              <a:ext cx="289080" cy="43164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50920" y="1676160"/>
              <a:ext cx="144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SDMX-ML data fi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(data sets, series, observations, et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250920" y="2396880"/>
              <a:ext cx="15843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SDMX-ML data structure definitions (concepts, code lists, data structure definitions, et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12"/>
          <p:cNvSpPr/>
          <p:nvPr/>
        </p:nvSpPr>
        <p:spPr>
          <a:xfrm>
            <a:off x="2846160" y="107460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CB SDMX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3132000" y="1676520"/>
            <a:ext cx="2808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3132000" y="3405240"/>
            <a:ext cx="2808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3132000" y="5205240"/>
            <a:ext cx="2808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3639960" y="174960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DMX-ML R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25760" y="350028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DMX Informati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3782880" y="527688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isual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4427640" y="21812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4427640" y="390852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21"/>
          <p:cNvGrpSpPr/>
          <p:nvPr/>
        </p:nvGrpSpPr>
        <p:grpSpPr>
          <a:xfrm>
            <a:off x="6692040" y="1100160"/>
            <a:ext cx="2343960" cy="3097080"/>
            <a:chOff x="6692040" y="1100160"/>
            <a:chExt cx="2343960" cy="3097080"/>
          </a:xfrm>
        </p:grpSpPr>
        <p:sp>
          <p:nvSpPr>
            <p:cNvPr id="139" name="Rectangle 22"/>
            <p:cNvSpPr/>
            <p:nvPr/>
          </p:nvSpPr>
          <p:spPr>
            <a:xfrm>
              <a:off x="6804000" y="1460520"/>
              <a:ext cx="2232000" cy="273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3"/>
            <p:cNvSpPr/>
            <p:nvPr/>
          </p:nvSpPr>
          <p:spPr>
            <a:xfrm>
              <a:off x="6692040" y="1100160"/>
              <a:ext cx="17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24"/>
            <p:cNvSpPr/>
            <p:nvPr/>
          </p:nvSpPr>
          <p:spPr>
            <a:xfrm>
              <a:off x="6948360" y="1604880"/>
              <a:ext cx="197964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25"/>
            <p:cNvSpPr/>
            <p:nvPr/>
          </p:nvSpPr>
          <p:spPr>
            <a:xfrm>
              <a:off x="6948360" y="2252880"/>
              <a:ext cx="197964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26"/>
            <p:cNvSpPr/>
            <p:nvPr/>
          </p:nvSpPr>
          <p:spPr>
            <a:xfrm>
              <a:off x="6948360" y="2900520"/>
              <a:ext cx="197964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27"/>
            <p:cNvSpPr/>
            <p:nvPr/>
          </p:nvSpPr>
          <p:spPr>
            <a:xfrm>
              <a:off x="6948360" y="3549600"/>
              <a:ext cx="197964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28"/>
            <p:cNvSpPr/>
            <p:nvPr/>
          </p:nvSpPr>
          <p:spPr>
            <a:xfrm>
              <a:off x="7240680" y="1698840"/>
              <a:ext cx="143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pplicat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9"/>
            <p:cNvSpPr/>
            <p:nvPr/>
          </p:nvSpPr>
          <p:spPr>
            <a:xfrm>
              <a:off x="7236000" y="2324160"/>
              <a:ext cx="143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pplicat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30"/>
            <p:cNvSpPr/>
            <p:nvPr/>
          </p:nvSpPr>
          <p:spPr>
            <a:xfrm>
              <a:off x="7236000" y="2973600"/>
              <a:ext cx="143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pplicat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31"/>
            <p:cNvSpPr/>
            <p:nvPr/>
          </p:nvSpPr>
          <p:spPr>
            <a:xfrm>
              <a:off x="7236000" y="3621240"/>
              <a:ext cx="143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pplication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Line 32"/>
          <p:cNvSpPr/>
          <p:nvPr/>
        </p:nvSpPr>
        <p:spPr>
          <a:xfrm flipH="1">
            <a:off x="6227640" y="1820880"/>
            <a:ext cx="720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33"/>
          <p:cNvSpPr/>
          <p:nvPr/>
        </p:nvSpPr>
        <p:spPr>
          <a:xfrm flipH="1">
            <a:off x="6227640" y="2540160"/>
            <a:ext cx="720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4"/>
          <p:cNvSpPr/>
          <p:nvPr/>
        </p:nvSpPr>
        <p:spPr>
          <a:xfrm flipH="1">
            <a:off x="6227640" y="318924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5"/>
          <p:cNvSpPr/>
          <p:nvPr/>
        </p:nvSpPr>
        <p:spPr>
          <a:xfrm flipH="1" flipV="1">
            <a:off x="6227640" y="340488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36"/>
          <p:cNvSpPr/>
          <p:nvPr/>
        </p:nvSpPr>
        <p:spPr>
          <a:xfrm flipH="1">
            <a:off x="2195280" y="18921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37"/>
          <p:cNvSpPr/>
          <p:nvPr/>
        </p:nvSpPr>
        <p:spPr>
          <a:xfrm flipH="1">
            <a:off x="2195280" y="1892160"/>
            <a:ext cx="936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2263320" y="1916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3781440" y="42688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6229800" y="35496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3420000" y="254016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43"/>
          <p:cNvSpPr/>
          <p:nvPr/>
        </p:nvSpPr>
        <p:spPr>
          <a:xfrm flipV="1">
            <a:off x="8172360" y="419724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4"/>
          <p:cNvSpPr/>
          <p:nvPr/>
        </p:nvSpPr>
        <p:spPr>
          <a:xfrm>
            <a:off x="7381800" y="4484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7742520" y="5157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D7CD-A2F7-442B-9ECB-B5BD49B8603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CB visualisation tools (4): An SDMX visualisation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642000" y="65023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C032-AE41-4EBC-BA26-B5E6AEF9CE7F}" type="slidenum">
              <a:rPr b="0" lang="en-GB" sz="11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95280" y="1197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pen sourc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CB, NY FED, BOC, OE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ode hosted and publicly available on Googl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trict commit policy and change management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Leadership roles (Project Manager, Project Advisor and Project Archite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Committers: three indiv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Contributors: contributions are welcome from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Users: the code is available to all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66DB-0E0D-4078-A70C-12F4AB26EC0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B visualisation tools (5): Planned 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Generalise the use of this technology to other sections of the ECB website (e.g.: effective exchange rates, HCIs, Eurosystem joint dissemination sections, etc.)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Replace charts of the ECB Statistical Data Warehouse with similar interactive visualisation tool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dd new statistical domains to the ECB dashboar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3183-85AB-41ED-805A-7EF5DEFBB5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DMX Web services on the SDW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vailable 2009 Q3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ossibility to get all statistical data stored in the SDW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upport for the SDMX-ML Query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ossibility to get all the data or updates and revisions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ossibility to retrieve data snapsho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ossibility to filter data by dataflows, datasets, dimensions, attributes, date ranges, et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ata returned in SDMX-ML Compact Data and SDMX-ML Generic Data formats (v. 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E856-A3D9-4B52-ACC4-FA82716B7A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ata exchange: SDMX-EDI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ata storage: SDMX Information Mod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ata dissemination: SDMX-M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557360"/>
            <a:ext cx="8207280" cy="5032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6B8C-4AEE-4951-A851-41A159D11F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DMX Web services on the SDW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ossibility to retrieve data structure definitions, code lists and concept schem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ossibility to retrieve the category schemes, organisation schemes and dataflow definitions  (including constraints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Metadata returned in SDMX-ML Structure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EF33-B961-4E8A-BC1A-2C58578C7C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DMX Web services on the SDW (3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ossibility to submit subscription requests and receive update notifications, when specific actions occur on data and meta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ossibility to receive notifications via email and via an HTTP reques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91D6-1590-42CB-A339-B682AD43D9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ata exchange: SDMX-ED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27 NCB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7 NSI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urost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IMF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BI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Using SDMX-EDI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1B95-7596-4F39-AE9B-C61AB705C3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ata exchange: SDMX-EDI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ata storage: SDMX Information Mod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ata dissemination: SDMX-M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2080"/>
            <a:ext cx="8207280" cy="5032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2FB3-097A-4AE0-9EE4-0E56B413D3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ata storage: SDMX Information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ata stored in FAME and Oracle databas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Based on the SDMX information model (concepts, code lists, key families, dataflows, etc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5644-CD2B-4EA9-BB1D-DDD3085F3C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ata exchange: SDMX-EDI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ata storage: SDMX Information Mod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Data dissemination: SDMX-M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494080"/>
            <a:ext cx="8207280" cy="5032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3C4F-E715-4292-B8DD-8845C03AF9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DMX-ML on the ECB websi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xport functionality on the ECB Statistical Data Warehous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Bilateral exchange rates &amp; euro area yield curv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ublication of national contribution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CB visualisation tool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6CD5-4DDF-4041-9B20-0D829E78FA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ECB Statistical Data Ware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903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Full support of extractions in SDMX-ML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137800" cy="50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A962-892A-403B-B2E6-5931B94099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ilateral exchange rates and euro area yield cur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8353440" cy="5489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211640" y="4221000"/>
            <a:ext cx="289080" cy="1944720"/>
          </a:xfrm>
          <a:prstGeom prst="line">
            <a:avLst/>
          </a:prstGeom>
          <a:ln w="38160">
            <a:solidFill>
              <a:srgbClr val="22239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63920" y="3645000"/>
            <a:ext cx="181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393"/>
                </a:solidFill>
                <a:latin typeface="Arial"/>
              </a:rPr>
              <a:t>Extractions i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393"/>
                </a:solidFill>
                <a:latin typeface="Arial"/>
              </a:rPr>
              <a:t>SDMX-ML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E90A-70D1-4FA5-98ED-4410F59864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8:27:23Z</dcterms:created>
  <dc:creator>Xavier Sosnovsky</dc:creator>
  <dc:description/>
  <dc:language>en-US</dc:language>
  <cp:lastModifiedBy>Xavier Sosnovsky</cp:lastModifiedBy>
  <dcterms:modified xsi:type="dcterms:W3CDTF">2009-03-26T13:20:50Z</dcterms:modified>
  <cp:revision>54</cp:revision>
  <dc:subject/>
  <dc:title>The use of SDMX at the ECB</dc:title>
</cp:coreProperties>
</file>