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5CD5-900C-4DF5-A753-492D7AA99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26B9FD6E-1334-4DB3-A037-32DCE3E91BDB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0F797E9D-B7A3-4208-931B-80E7A375F714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E801134A-D534-4D0B-8E05-3FDDB6C3B1F6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8D115632-46DF-4176-84A3-D8649081FD25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7232-710D-4631-9972-F3C542EB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DD37-FFE7-4213-B747-5FB37E9B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84A-9D4C-49AD-B796-6B41ADE5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FE6-3A8D-46C2-B668-DC866033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A45-D070-48CB-9B8B-72D40CA9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F640-E959-4C59-9A1D-13B88170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739D-F317-497D-90FA-2D4EDCFA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272-6F39-4B8C-AB03-7A0AA10A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057-1577-447E-95BD-6BD7492E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79F-4B60-4B45-A540-27A14562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001-B4E6-40D8-843A-2138D568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897-6B9C-4D54-8438-28679E9C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C57F-DD82-4A0A-898F-AB339D74E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DMX Registr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2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fan Gr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Data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loying SDMX Registry Services Within Doma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nticipated that each organization leading a statistical domain will deploy a set of registry services to support exchanges within that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lso possible within national statistical systems and individual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to have generic, “public” registrie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odel has not been widely expl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MX-type registries within research domains also make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upplement existing data archives and RD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s the cost of development of research infrastructure significa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increase in visibility of and access to data and sourc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457200" y="2133720"/>
            <a:ext cx="11430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57200" y="3124080"/>
            <a:ext cx="11430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57200" y="4191120"/>
            <a:ext cx="11430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457200" y="5257800"/>
            <a:ext cx="11430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1676520" y="2514600"/>
            <a:ext cx="167616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676520" y="3505320"/>
            <a:ext cx="1523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 flipV="1">
            <a:off x="1676520" y="3885840"/>
            <a:ext cx="160020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1676520" y="4267080"/>
            <a:ext cx="152388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95680" y="2971800"/>
            <a:ext cx="838440" cy="12952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3657600" y="35053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380988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3505320" y="4038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 flipH="1">
            <a:off x="358092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3809880" y="44956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7"/>
          <p:cNvSpPr/>
          <p:nvPr/>
        </p:nvSpPr>
        <p:spPr>
          <a:xfrm flipV="1">
            <a:off x="3886200" y="4038480"/>
            <a:ext cx="533520" cy="152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8"/>
          <p:cNvSpPr/>
          <p:nvPr/>
        </p:nvSpPr>
        <p:spPr>
          <a:xfrm>
            <a:off x="60199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5715000" y="4343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5790960" y="48006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6019920" y="48006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5562720" y="3276720"/>
            <a:ext cx="1523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7238880" y="2743200"/>
            <a:ext cx="16002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3565440" y="5675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2119680" y="537048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Var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6"/>
          <p:cNvSpPr/>
          <p:nvPr/>
        </p:nvSpPr>
        <p:spPr>
          <a:xfrm>
            <a:off x="5867280" y="3809880"/>
            <a:ext cx="304920" cy="3812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4327920" y="5522760"/>
            <a:ext cx="31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-month production cyc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JEDH (Joint External Debt Hub)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457200" y="1600200"/>
            <a:ext cx="11430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57200" y="2590920"/>
            <a:ext cx="11430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3657600"/>
            <a:ext cx="11430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57200" y="4724280"/>
            <a:ext cx="11430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1371600" y="1752480"/>
            <a:ext cx="99072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DMX-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1371600" y="2743200"/>
            <a:ext cx="99072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DMX-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1447920" y="3809880"/>
            <a:ext cx="91440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DMX-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>
            <a:off x="1523880" y="4876920"/>
            <a:ext cx="838440" cy="533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DMX-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1"/>
          <p:cNvSpPr/>
          <p:nvPr/>
        </p:nvSpPr>
        <p:spPr>
          <a:xfrm>
            <a:off x="1523880" y="5638680"/>
            <a:ext cx="838440" cy="533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DMX-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2517120" y="586728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Debtor data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4114800" y="2819520"/>
            <a:ext cx="1600200" cy="205740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2438280" y="2057400"/>
            <a:ext cx="1676520" cy="762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2362320" y="2971800"/>
            <a:ext cx="1676160" cy="762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2362320" y="40384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 flipV="1">
            <a:off x="2362320" y="4343040"/>
            <a:ext cx="1600200" cy="762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 flipV="1">
            <a:off x="2438280" y="4876560"/>
            <a:ext cx="1752840" cy="99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 rot="1411200">
            <a:off x="2424960" y="2478240"/>
            <a:ext cx="167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Info about data is registere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6248520" y="1676520"/>
            <a:ext cx="1143000" cy="1143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1"/>
          <p:cNvSpPr/>
          <p:nvPr/>
        </p:nvSpPr>
        <p:spPr>
          <a:xfrm flipH="1">
            <a:off x="5791320" y="2971800"/>
            <a:ext cx="76176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2"/>
          <p:cNvSpPr/>
          <p:nvPr/>
        </p:nvSpPr>
        <p:spPr>
          <a:xfrm flipV="1">
            <a:off x="5867280" y="3124080"/>
            <a:ext cx="762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4421880" y="35812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6327360" y="3276720"/>
            <a:ext cx="15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UR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4787280" y="1103400"/>
            <a:ext cx="27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s data from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7"/>
          <p:cNvSpPr/>
          <p:nvPr/>
        </p:nvSpPr>
        <p:spPr>
          <a:xfrm>
            <a:off x="2438280" y="18288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8"/>
          <p:cNvSpPr/>
          <p:nvPr/>
        </p:nvSpPr>
        <p:spPr>
          <a:xfrm>
            <a:off x="7467480" y="259092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9"/>
          <p:cNvSpPr/>
          <p:nvPr/>
        </p:nvSpPr>
        <p:spPr>
          <a:xfrm>
            <a:off x="7696080" y="3809880"/>
            <a:ext cx="990720" cy="76212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0"/>
          <p:cNvSpPr/>
          <p:nvPr/>
        </p:nvSpPr>
        <p:spPr>
          <a:xfrm>
            <a:off x="8305920" y="47242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6858000" y="5562720"/>
            <a:ext cx="17524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DH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2"/>
          <p:cNvSpPr/>
          <p:nvPr/>
        </p:nvSpPr>
        <p:spPr>
          <a:xfrm>
            <a:off x="6480360" y="4572000"/>
            <a:ext cx="15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prov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ea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3"/>
          <p:cNvSpPr/>
          <p:nvPr/>
        </p:nvSpPr>
        <p:spPr>
          <a:xfrm>
            <a:off x="7705800" y="2286000"/>
            <a:ext cx="14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MX-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ed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H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EDH with SDM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1722600" y="3390840"/>
            <a:ext cx="1062000" cy="10368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192320" y="5638680"/>
            <a:ext cx="995400" cy="517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1855800" y="3506760"/>
            <a:ext cx="1060560" cy="10368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3844800" y="2238480"/>
            <a:ext cx="1327320" cy="14983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6167520" y="3506760"/>
            <a:ext cx="1062000" cy="10368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6964200" y="5638680"/>
            <a:ext cx="995400" cy="517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276200" y="645336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6805080" y="624204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50920" y="3736800"/>
            <a:ext cx="147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7202520" y="3794040"/>
            <a:ext cx="147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713040" y="157464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O SDM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 flipV="1">
            <a:off x="1523880" y="4659480"/>
            <a:ext cx="663840" cy="979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 flipV="1">
            <a:off x="3116160" y="3160800"/>
            <a:ext cx="66384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>
            <a:off x="5238720" y="3173400"/>
            <a:ext cx="862200" cy="633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6"/>
          <p:cNvSpPr/>
          <p:nvPr/>
        </p:nvSpPr>
        <p:spPr>
          <a:xfrm>
            <a:off x="7095960" y="4486320"/>
            <a:ext cx="398520" cy="1095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2714760" y="4888080"/>
            <a:ext cx="434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ow of FAO CountrySTAT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ionSTAT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8"/>
          <p:cNvSpPr/>
          <p:nvPr/>
        </p:nvSpPr>
        <p:spPr>
          <a:xfrm>
            <a:off x="1246680" y="491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2935440" y="2955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5632920" y="315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7501320" y="490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2"/>
          <p:cNvSpPr/>
          <p:nvPr/>
        </p:nvSpPr>
        <p:spPr>
          <a:xfrm>
            <a:off x="1258920" y="4946760"/>
            <a:ext cx="264960" cy="230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3"/>
          <p:cNvSpPr/>
          <p:nvPr/>
        </p:nvSpPr>
        <p:spPr>
          <a:xfrm>
            <a:off x="2916360" y="2987640"/>
            <a:ext cx="33156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5641920" y="3197160"/>
            <a:ext cx="3319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7494480" y="4946760"/>
            <a:ext cx="3319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6"/>
          <p:cNvSpPr/>
          <p:nvPr/>
        </p:nvSpPr>
        <p:spPr>
          <a:xfrm>
            <a:off x="1987560" y="3621240"/>
            <a:ext cx="1062000" cy="10382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7"/>
          <p:cNvSpPr/>
          <p:nvPr/>
        </p:nvSpPr>
        <p:spPr>
          <a:xfrm>
            <a:off x="1324080" y="5753160"/>
            <a:ext cx="995400" cy="5191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8"/>
          <p:cNvSpPr/>
          <p:nvPr/>
        </p:nvSpPr>
        <p:spPr>
          <a:xfrm>
            <a:off x="1457280" y="5867280"/>
            <a:ext cx="995400" cy="52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9"/>
          <p:cNvSpPr/>
          <p:nvPr/>
        </p:nvSpPr>
        <p:spPr>
          <a:xfrm>
            <a:off x="3049560" y="4313160"/>
            <a:ext cx="31179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0"/>
          <p:cNvSpPr/>
          <p:nvPr/>
        </p:nvSpPr>
        <p:spPr>
          <a:xfrm>
            <a:off x="3049560" y="3967200"/>
            <a:ext cx="31179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1"/>
          <p:cNvSpPr/>
          <p:nvPr/>
        </p:nvSpPr>
        <p:spPr>
          <a:xfrm>
            <a:off x="4327920" y="3963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2"/>
          <p:cNvSpPr/>
          <p:nvPr/>
        </p:nvSpPr>
        <p:spPr>
          <a:xfrm>
            <a:off x="4365720" y="3995640"/>
            <a:ext cx="33156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3"/>
          <p:cNvSpPr/>
          <p:nvPr/>
        </p:nvSpPr>
        <p:spPr>
          <a:xfrm>
            <a:off x="5438880" y="2813040"/>
            <a:ext cx="861840" cy="6336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71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DMX in Action: Prototyp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5"/>
          <p:cNvGrpSpPr/>
          <p:nvPr/>
        </p:nvGrpSpPr>
        <p:grpSpPr>
          <a:xfrm>
            <a:off x="0" y="0"/>
            <a:ext cx="8997840" cy="2039760"/>
            <a:chOff x="0" y="0"/>
            <a:chExt cx="8997840" cy="2039760"/>
          </a:xfrm>
        </p:grpSpPr>
        <p:pic>
          <p:nvPicPr>
            <p:cNvPr id="212" name="Picture 36" descr="FAO_2cm_RGB_20_69_168_200dpi"/>
            <p:cNvPicPr/>
            <p:nvPr/>
          </p:nvPicPr>
          <p:blipFill>
            <a:blip r:embed="rId1"/>
            <a:stretch/>
          </p:blipFill>
          <p:spPr>
            <a:xfrm>
              <a:off x="8277120" y="109440"/>
              <a:ext cx="72072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Line 37"/>
            <p:cNvSpPr/>
            <p:nvPr/>
          </p:nvSpPr>
          <p:spPr>
            <a:xfrm>
              <a:off x="8096400" y="0"/>
              <a:ext cx="0" cy="2039760"/>
            </a:xfrm>
            <a:prstGeom prst="line">
              <a:avLst/>
            </a:prstGeom>
            <a:ln w="34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8"/>
            <p:cNvSpPr/>
            <p:nvPr/>
          </p:nvSpPr>
          <p:spPr>
            <a:xfrm>
              <a:off x="0" y="950760"/>
              <a:ext cx="7197840" cy="0"/>
            </a:xfrm>
            <a:prstGeom prst="line">
              <a:avLst/>
            </a:prstGeom>
            <a:ln w="34920">
              <a:solidFill>
                <a:srgbClr val="1445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9"/>
            <p:cNvSpPr/>
            <p:nvPr/>
          </p:nvSpPr>
          <p:spPr>
            <a:xfrm>
              <a:off x="0" y="982800"/>
              <a:ext cx="5398920" cy="0"/>
            </a:xfrm>
            <a:prstGeom prst="line">
              <a:avLst/>
            </a:prstGeom>
            <a:ln w="34920">
              <a:solidFill>
                <a:srgbClr val="08a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40"/>
            <p:cNvSpPr/>
            <p:nvPr/>
          </p:nvSpPr>
          <p:spPr>
            <a:xfrm>
              <a:off x="4894920" y="30240"/>
              <a:ext cx="3105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445a8"/>
                  </a:solidFill>
                  <a:latin typeface="Arial"/>
                </a:rPr>
                <a:t>FOOD AND </a:t>
              </a:r>
              <a:r>
                <a:rPr b="1" lang="en-GB" sz="1100" spc="-1" strike="noStrike">
                  <a:solidFill>
                    <a:srgbClr val="1445a8"/>
                  </a:solidFill>
                  <a:latin typeface="Arial"/>
                </a:rPr>
                <a:t>AGRICULTURE ORGANIZ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1445a8"/>
                  </a:solidFill>
                  <a:latin typeface="Arial"/>
                </a:rPr>
                <a:t>OF THE UNITED NA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1" descr=""/>
            <p:cNvPicPr/>
            <p:nvPr/>
          </p:nvPicPr>
          <p:blipFill>
            <a:blip r:embed="rId2"/>
            <a:stretch/>
          </p:blipFill>
          <p:spPr>
            <a:xfrm>
              <a:off x="150840" y="108000"/>
              <a:ext cx="2657520" cy="68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42"/>
          <p:cNvSpPr/>
          <p:nvPr/>
        </p:nvSpPr>
        <p:spPr>
          <a:xfrm>
            <a:off x="7095960" y="6545160"/>
            <a:ext cx="201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de courtesy of the F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0"/>
          <p:cNvGrpSpPr/>
          <p:nvPr/>
        </p:nvGrpSpPr>
        <p:grpSpPr>
          <a:xfrm>
            <a:off x="0" y="0"/>
            <a:ext cx="8997840" cy="2039760"/>
            <a:chOff x="0" y="0"/>
            <a:chExt cx="8997840" cy="2039760"/>
          </a:xfrm>
        </p:grpSpPr>
        <p:pic>
          <p:nvPicPr>
            <p:cNvPr id="220" name="Picture 2" descr="FAO_2cm_RGB_20_69_168_200dpi"/>
            <p:cNvPicPr/>
            <p:nvPr/>
          </p:nvPicPr>
          <p:blipFill>
            <a:blip r:embed="rId1"/>
            <a:stretch/>
          </p:blipFill>
          <p:spPr>
            <a:xfrm>
              <a:off x="8277120" y="109440"/>
              <a:ext cx="72072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Line 3"/>
            <p:cNvSpPr/>
            <p:nvPr/>
          </p:nvSpPr>
          <p:spPr>
            <a:xfrm>
              <a:off x="8096400" y="0"/>
              <a:ext cx="0" cy="2039760"/>
            </a:xfrm>
            <a:prstGeom prst="line">
              <a:avLst/>
            </a:prstGeom>
            <a:ln w="34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"/>
            <p:cNvSpPr/>
            <p:nvPr/>
          </p:nvSpPr>
          <p:spPr>
            <a:xfrm>
              <a:off x="0" y="950760"/>
              <a:ext cx="7197840" cy="0"/>
            </a:xfrm>
            <a:prstGeom prst="line">
              <a:avLst/>
            </a:prstGeom>
            <a:ln w="34920">
              <a:solidFill>
                <a:srgbClr val="1445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5"/>
            <p:cNvSpPr/>
            <p:nvPr/>
          </p:nvSpPr>
          <p:spPr>
            <a:xfrm>
              <a:off x="0" y="982800"/>
              <a:ext cx="5398920" cy="0"/>
            </a:xfrm>
            <a:prstGeom prst="line">
              <a:avLst/>
            </a:prstGeom>
            <a:ln w="34920">
              <a:solidFill>
                <a:srgbClr val="08a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6"/>
            <p:cNvSpPr/>
            <p:nvPr/>
          </p:nvSpPr>
          <p:spPr>
            <a:xfrm>
              <a:off x="4894920" y="30240"/>
              <a:ext cx="3105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445a8"/>
                  </a:solidFill>
                  <a:latin typeface="Arial"/>
                </a:rPr>
                <a:t>FOOD AND </a:t>
              </a:r>
              <a:r>
                <a:rPr b="1" lang="en-GB" sz="1100" spc="-1" strike="noStrike">
                  <a:solidFill>
                    <a:srgbClr val="1445a8"/>
                  </a:solidFill>
                  <a:latin typeface="Arial"/>
                </a:rPr>
                <a:t>AGRICULTURE ORGANIZ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1445a8"/>
                  </a:solidFill>
                  <a:latin typeface="Arial"/>
                </a:rPr>
                <a:t>OF THE UNITED NA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Picture 7" descr=""/>
            <p:cNvPicPr/>
            <p:nvPr/>
          </p:nvPicPr>
          <p:blipFill>
            <a:blip r:embed="rId2"/>
            <a:stretch/>
          </p:blipFill>
          <p:spPr>
            <a:xfrm>
              <a:off x="150840" y="108000"/>
              <a:ext cx="2657520" cy="68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Text Box 8"/>
          <p:cNvSpPr/>
          <p:nvPr/>
        </p:nvSpPr>
        <p:spPr>
          <a:xfrm>
            <a:off x="541440" y="1909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573120" y="1940040"/>
            <a:ext cx="374760" cy="29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1187280" y="1908000"/>
            <a:ext cx="676944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untryStat National Publication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eb site is published from the files in CountrySt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DMX 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ew CountryStat files are converted to SDMX-ML data sets and made web accessible on the CountryStat 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files are registered in the FAO SDMX 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onStat Regional Publication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ries the registry for new registrations which responds with registration details including the URL of the new 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trieves the new data sets from the CountryStat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verts the SDMX-ML files to an internal format and integrates the new data sets with existing RegionStat data 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-publishes the RegionStat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541440" y="27687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2"/>
          <p:cNvSpPr/>
          <p:nvPr/>
        </p:nvSpPr>
        <p:spPr>
          <a:xfrm>
            <a:off x="573120" y="2798640"/>
            <a:ext cx="374760" cy="300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419400" y="4735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4"/>
          <p:cNvSpPr/>
          <p:nvPr/>
        </p:nvSpPr>
        <p:spPr>
          <a:xfrm>
            <a:off x="501480" y="4772160"/>
            <a:ext cx="374760" cy="29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493920" y="6446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6"/>
          <p:cNvSpPr/>
          <p:nvPr/>
        </p:nvSpPr>
        <p:spPr>
          <a:xfrm>
            <a:off x="525600" y="6477120"/>
            <a:ext cx="374400" cy="29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ystem: Expla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6986520" y="6502320"/>
            <a:ext cx="201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de courtesy of the F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432000" y="5345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3"/>
          <p:cNvSpPr/>
          <p:nvPr/>
        </p:nvSpPr>
        <p:spPr>
          <a:xfrm>
            <a:off x="514440" y="5381640"/>
            <a:ext cx="374400" cy="29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tion of SDMX Regis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MX uses a selective approach to replication of resources found inside domain SDMX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domain registry can become a recognized user in other domain regi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ption/notification can drive real-time replication of registry metadata around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coordinated “hub” registry, a more formal registry network could be establish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ould require no extension to existing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ould require a major feat of organization (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very “light” feder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, more intensive schemes have failed in other technology domains (UDDI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DMX Registries and Other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DMX Registry Services are designed to support relate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MX “reference metadata” reports can provide links to metadata and data in other standard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indexing of needed metadata fields from other standards within the SDMX registry na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provide access to native non-SDMX formatted XML resources (DDI, Dublin Core, METS, XBRL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inclu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ing data and metadata ownership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ing sourcing transparent by linking aggregates to source data/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apabilities which are typically not available today to support comparison (integration with ISO/IEC 11179 metadata registries for dealing with terminology issu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registries are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DI and ebXML registries are much more generic in purpose, and compatible with SD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/IEC Metadata Registries are not mechanistic web-services 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specialized repositories of metadata around semantics, concepts and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compatible with, not duplicative of, SDMX registry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/IEC 11179 could be implemen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SDMX registry 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aF Vision -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1828800"/>
            <a:ext cx="457200" cy="6094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1828800"/>
            <a:ext cx="457200" cy="6094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2895480"/>
            <a:ext cx="1219320" cy="12193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19320" y="2362320"/>
            <a:ext cx="761760" cy="609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228600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95120" y="2286000"/>
            <a:ext cx="762120" cy="68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213372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1828800"/>
            <a:ext cx="457200" cy="6094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8160" y="133200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ted Registries (Based on SDMX, ebXML, web servi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553080" y="2438280"/>
            <a:ext cx="17528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/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DM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048120" y="2743200"/>
            <a:ext cx="35049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90920" y="4800600"/>
            <a:ext cx="144756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B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4800600"/>
            <a:ext cx="144792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4267080"/>
            <a:ext cx="2286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05720" y="6019920"/>
            <a:ext cx="137160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9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ph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5562360" y="5638320"/>
            <a:ext cx="114300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81680" y="5257800"/>
            <a:ext cx="16002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lin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5714640" y="5410080"/>
            <a:ext cx="106668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44480" y="59799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2971800" y="39625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047760" y="3657240"/>
            <a:ext cx="11430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2590920" y="3962520"/>
            <a:ext cx="38088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98680" y="34290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i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038120" y="2971800"/>
            <a:ext cx="251460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800600" y="3276720"/>
            <a:ext cx="1752480" cy="1523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02560" y="374796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ferences to sourc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4267080"/>
            <a:ext cx="685800" cy="76212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990720" y="38098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9680" y="521820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3760" y="350532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gan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38680" y="1600200"/>
            <a:ext cx="762120" cy="10666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213372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200480" y="179712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n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82360" y="43797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S Pack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MX provides a number of standards and guidelines which support the standard exchange of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odels/XML/EDIFACT formats fo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odels/XML formats for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architecture based on a set of registr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lines for the use of standard statistical concepts across domain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for establishing domain standards within each statistical do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MX Regis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alk focuses on the SDMX Registry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key to fully automating statistical discovery and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the primary means of enhancing visibility and discovery of data and metadata within statistical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designed to provide a connection point between SDMX and other related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sting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plication of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lot of duplicative work within statistics, because there is little awareness of other data collection within specific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wast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with a large amount of public statistical data available on the Interne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difficult to find good dat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mpacts end-users (researchers, students, journalists) more than policy makers with dedicated access to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existing data can b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many formats – too much emphasis on Web-site presentation (as opposed to down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little metadata for existing 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or impossible to combine data from different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o data sources is difficult or impossible (not even the documentation is acces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ing concepts and definitions can be challenging – this impacts comparability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ase for Infrastructur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tandards allow for broader visibility and re-use of data and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s greater transpa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s higher quality and efficiency in data access through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s cannot be governed by individu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ission of most organizations is too narrow (even international 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role of governments, supra-national initiatives, and public-private consor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ublic data is paid for by the tax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y are the least-well served for their in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ing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services technology can deal with many of the generic problems inherent in distributing data sources and applications around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such as DDI, SDMX, and ISO/IEC 11179 provide specific models and formats for use within the domains of statistics an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MX provides a powerful registry model for establishing a research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to integrate with/support use of many other related standards (DDI, ISO 11179, METS, XBRL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MX registry tools are available free and as open source 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the SDMX Registry Services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SDMX Registry (that is, an implementation of the standard registry services) provides a number of things to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pository of metadata about the structures and concepts of data and metadata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pository of information about who provides what data and metadata to wh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to manage data across a broa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istry of available data and metadata sets in standard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s all information to find and use standard data and metadata throughout a community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"/>
          <p:cNvSpPr/>
          <p:nvPr/>
        </p:nvSpPr>
        <p:spPr>
          <a:xfrm>
            <a:off x="3708360" y="2924280"/>
            <a:ext cx="1658880" cy="17301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633840" y="35211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sioning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3706920" y="907920"/>
            <a:ext cx="1658880" cy="173052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635280" y="150480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ISTRY Data Set/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tadata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710160" y="5083200"/>
            <a:ext cx="1658880" cy="173052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3635280" y="568008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al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4067280" y="2349000"/>
            <a:ext cx="0" cy="1008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V="1">
            <a:off x="4932360" y="2349000"/>
            <a:ext cx="0" cy="100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4067280" y="45086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 flipV="1">
            <a:off x="4932360" y="45086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6516720" y="1268280"/>
            <a:ext cx="107964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6516720" y="2044800"/>
            <a:ext cx="107964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5364000" y="148428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>
            <a:off x="5364000" y="220500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6516720" y="3284640"/>
            <a:ext cx="107964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6516720" y="4060800"/>
            <a:ext cx="107964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2"/>
          <p:cNvSpPr/>
          <p:nvPr/>
        </p:nvSpPr>
        <p:spPr>
          <a:xfrm flipH="1">
            <a:off x="5364000" y="350028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3"/>
          <p:cNvSpPr/>
          <p:nvPr/>
        </p:nvSpPr>
        <p:spPr>
          <a:xfrm flipH="1">
            <a:off x="5364000" y="422100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6516720" y="5445000"/>
            <a:ext cx="107964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6516720" y="6221520"/>
            <a:ext cx="107964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 flipH="1">
            <a:off x="5364000" y="566100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 flipH="1">
            <a:off x="5364000" y="638172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1828800" y="115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DMX Registry/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380880" y="57913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cribes data and meta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0"/>
          <p:cNvSpPr/>
          <p:nvPr/>
        </p:nvSpPr>
        <p:spPr>
          <a:xfrm>
            <a:off x="200160" y="3324240"/>
            <a:ext cx="277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cribes data and metadata sources and report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1"/>
          <p:cNvSpPr/>
          <p:nvPr/>
        </p:nvSpPr>
        <p:spPr>
          <a:xfrm>
            <a:off x="53352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exes data and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2"/>
          <p:cNvSpPr/>
          <p:nvPr/>
        </p:nvSpPr>
        <p:spPr>
          <a:xfrm>
            <a:off x="8061480" y="593640"/>
            <a:ext cx="2444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DMX Registry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3708360" y="2924280"/>
            <a:ext cx="1658880" cy="17301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633840" y="35211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sioning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3706920" y="907920"/>
            <a:ext cx="1658880" cy="173052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635280" y="150480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ISTRY Data Set/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tadata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3710160" y="5083200"/>
            <a:ext cx="1658880" cy="173052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635280" y="568008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al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V="1">
            <a:off x="4067280" y="2349000"/>
            <a:ext cx="0" cy="1008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4932360" y="2349000"/>
            <a:ext cx="0" cy="100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4067280" y="45086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4932360" y="45086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380880" y="2886120"/>
            <a:ext cx="1727280" cy="1606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cription/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plications can subscribe to notification of new or changed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V="1">
            <a:off x="1908000" y="2205000"/>
            <a:ext cx="180036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1978200" y="3860640"/>
            <a:ext cx="1730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978200" y="4273560"/>
            <a:ext cx="1730160" cy="138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6516720" y="1268280"/>
            <a:ext cx="107964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6516720" y="2044800"/>
            <a:ext cx="107964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 flipH="1">
            <a:off x="5364000" y="148428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9"/>
          <p:cNvSpPr/>
          <p:nvPr/>
        </p:nvSpPr>
        <p:spPr>
          <a:xfrm flipH="1">
            <a:off x="5364000" y="220500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6516720" y="3284640"/>
            <a:ext cx="107964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6516720" y="4060800"/>
            <a:ext cx="107964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2"/>
          <p:cNvSpPr/>
          <p:nvPr/>
        </p:nvSpPr>
        <p:spPr>
          <a:xfrm flipH="1">
            <a:off x="5364000" y="350028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3"/>
          <p:cNvSpPr/>
          <p:nvPr/>
        </p:nvSpPr>
        <p:spPr>
          <a:xfrm flipH="1">
            <a:off x="5364000" y="422100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6516720" y="5445000"/>
            <a:ext cx="107964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6516720" y="6221520"/>
            <a:ext cx="107964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6"/>
          <p:cNvSpPr/>
          <p:nvPr/>
        </p:nvSpPr>
        <p:spPr>
          <a:xfrm flipH="1">
            <a:off x="5364000" y="566100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7"/>
          <p:cNvSpPr/>
          <p:nvPr/>
        </p:nvSpPr>
        <p:spPr>
          <a:xfrm flipH="1">
            <a:off x="5364000" y="638172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8"/>
          <p:cNvSpPr/>
          <p:nvPr/>
        </p:nvSpPr>
        <p:spPr>
          <a:xfrm>
            <a:off x="1828800" y="115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DMX Registry/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9"/>
          <p:cNvSpPr/>
          <p:nvPr/>
        </p:nvSpPr>
        <p:spPr>
          <a:xfrm>
            <a:off x="380880" y="57913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cribes data and meta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53352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exes data and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2"/>
          <p:cNvSpPr/>
          <p:nvPr/>
        </p:nvSpPr>
        <p:spPr>
          <a:xfrm>
            <a:off x="8061480" y="593640"/>
            <a:ext cx="2444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DMX Registry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8:13:12Z</dcterms:created>
  <dc:creator>agregory</dc:creator>
  <dc:description/>
  <dc:language>en-US</dc:language>
  <cp:lastModifiedBy>agregory</cp:lastModifiedBy>
  <dcterms:modified xsi:type="dcterms:W3CDTF">2009-04-01T19:04:26Z</dcterms:modified>
  <cp:revision>15</cp:revision>
  <dc:subject/>
  <dc:title>The SDMX Registry Model</dc:title>
</cp:coreProperties>
</file>