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A710-C579-4F84-AC3F-3CC1BE09AF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A9F0-2C08-4E04-AB9A-93EDCAA5C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6F7C-5AF5-4A1F-96B2-C96DCB54F0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BD0E-1A73-46B9-8D1D-82A5D8E8AE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3915-ADE8-41F3-82C2-4577EA3F31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676A-42C0-436B-9ECC-A4C7788D6D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C07C-A657-48BF-853B-0A59B5192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4A39-BAC1-49FF-96DF-C436C3866D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84E2-19B8-44BD-A693-642ADEF84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6F14-CEE1-4216-BF09-D979855301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1918-4062-4361-B509-823A8CF751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06FC-3D84-473B-B391-BAA00A131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1964" r="0" b="8024"/>
          <a:stretch/>
        </p:blipFill>
        <p:spPr>
          <a:xfrm>
            <a:off x="0" y="11430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720280" y="6461280"/>
            <a:ext cx="609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295280" cy="662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081080"/>
            <a:ext cx="4343400" cy="76320"/>
          </a:xfrm>
          <a:prstGeom prst="rect">
            <a:avLst/>
          </a:prstGeom>
          <a:solidFill>
            <a:srgbClr val="365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1081080"/>
            <a:ext cx="2914560" cy="76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5b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5776920"/>
            <a:ext cx="6858000" cy="76320"/>
          </a:xfrm>
          <a:prstGeom prst="rect">
            <a:avLst/>
          </a:prstGeom>
          <a:solidFill>
            <a:srgbClr val="365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200" y="5776920"/>
            <a:ext cx="1981080" cy="76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5b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460440" y="449280"/>
            <a:ext cx="2968560" cy="270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65ba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4000"/>
            <a:ext cx="4343400" cy="75960"/>
          </a:xfrm>
          <a:prstGeom prst="rect">
            <a:avLst/>
          </a:prstGeom>
          <a:solidFill>
            <a:srgbClr val="365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324000"/>
            <a:ext cx="29145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5b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0280" y="6461280"/>
            <a:ext cx="609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066680" cy="51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60280"/>
            <a:ext cx="4572000" cy="7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280"/>
            <a:ext cx="320040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a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6919560" y="6581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365ba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631-59ED-4A82-98DB-D8CBB5C01FF2}" type="slidenum">
              <a:rPr b="1" lang="en-US" sz="1100" spc="-1" strike="noStrike">
                <a:solidFill>
                  <a:srgbClr val="365ba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20280" y="5927760"/>
            <a:ext cx="609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880" y="1792440"/>
            <a:ext cx="852192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65ba0"/>
                </a:solidFill>
                <a:latin typeface="Arial"/>
              </a:rPr>
              <a:t>Developments of the Data Infrastructure in Germany since the end of the 90‘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5053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65ba0"/>
                </a:solidFill>
                <a:latin typeface="Arial"/>
              </a:rPr>
              <a:t>PD Dr. Hilmar Schneider, IZA Bo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960" y="4038480"/>
            <a:ext cx="8454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365ba0"/>
                </a:solidFill>
                <a:latin typeface="Arial"/>
              </a:rPr>
              <a:t>ODaF Europe 2009, </a:t>
            </a:r>
            <a:br>
              <a:rPr sz="1500"/>
            </a:br>
            <a:r>
              <a:rPr b="0" lang="de-DE" sz="1500" spc="-1" strike="noStrike">
                <a:solidFill>
                  <a:srgbClr val="365ba0"/>
                </a:solidFill>
                <a:latin typeface="Arial"/>
              </a:rPr>
              <a:t>IZA, Bonn, April 2nd-3rd,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What are the objectives of Research Data Centres?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vision of available data for scientific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liance with data protec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qual treatment of dat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reation of user friend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penden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oiding privileged access to micro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38E9-AEC0-47A9-AEF3-7F45FC6857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Structural Problems of Research Data Centre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pendent part of a public authority instead of independent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zzy frontier between routine task of authority and special task of R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clarative disposal with regard to external fund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fter initial funding by the Federal Ministry of Education and Research has run out, internal legitimization is becoming do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32A1-97D5-42FC-A9B9-C8207D1AAF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Synergy Effect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biFid (establishment data based on surveys carried out by the Federal Statistical Office, and the Deutsche Bundesbank with establishment data of the Federal Labor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ged Biographies (employment status records of the Federal Labor Agency merged with pension records of the German Pension Insu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cTax Panel (tax payer panel merged with data from micro cens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8271-A23F-4B39-873A-1D2ADC3D7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The Data Service Centre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SC at I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Micro Data Lab at G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7852-61B2-473D-A670-AFDB6FE4E3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What are the objectives of Data Service Centres?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vision of comparative data documentation (meta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 and advising dat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velopment of adequate concepts of anony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velopment of prototypical scientific us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ension of analytical potential of available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rvice for data analysis (remote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pport for dat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gency to international micro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eparation of virtual data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velopment of links across different 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velopmen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pendent research with focus 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y more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0963-07AA-482F-8FFD-877D371C1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Conflicts between Research Data Centres and </a:t>
            </a:r>
            <a:br>
              <a:rPr sz="2400"/>
            </a:b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Data Service Centre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080" y="2349000"/>
            <a:ext cx="82263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etition between RDCs and DSCs in the field of user service, especially with regard to data documentation and remote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DSs are under external pressure by service offered through D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DCs are trying to make DSCs obsolete by adapting services that were originally provided by D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ger of losing comprehensive value added (e.g. comparative documentation of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DCs may lose internal power of legitimation, if competitive pressure vanis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F43D-4560-4875-831E-2658FD446D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Concluding remark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0080" y="2060280"/>
            <a:ext cx="82263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creation of RDCs and DSCs has been a success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etition between RDCs and DSCs should rather be understood as a driving force for progress than a redundancy, which absorbes res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used potential for the creation of D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2D7E-4D95-4DCE-B9C0-3359BFB127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133720"/>
            <a:ext cx="91440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65ba0"/>
                </a:solidFill>
                <a:latin typeface="Arial"/>
              </a:rPr>
              <a:t>IZA – Shaping the Future of La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5ba0"/>
                </a:solidFill>
                <a:latin typeface="Arial"/>
              </a:rPr>
              <a:t>http://www.iz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65ba0"/>
                </a:solidFill>
                <a:latin typeface="Arial"/>
              </a:rPr>
              <a:t>Who are the key players in official micro data production </a:t>
            </a:r>
            <a:br>
              <a:rPr sz="2000"/>
            </a:br>
            <a:r>
              <a:rPr b="1" lang="de-DE" sz="2000" spc="-1" strike="noStrike">
                <a:solidFill>
                  <a:srgbClr val="365ba0"/>
                </a:solidFill>
                <a:latin typeface="Arial"/>
              </a:rPr>
              <a:t>in Germany?</a:t>
            </a:r>
            <a:endParaRPr b="1" lang="en-US" sz="20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0080" y="1989000"/>
            <a:ext cx="82263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pendent Statistical Offices at the Länder level are collecting data on household and firm level (Micro census, census, income and expenditure survey, cost structure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deral Statistical Office, Wiesbaden (co-ordinates statistical offices at the Länder level, but has no directives; however, many official surveys are based on federal l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deral Labor Agency, Nürnberg (main source: individual data that are relevant for pension claims; individual data related to job search and active labor market poli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deral Reserve Bank of Germany (firm level data and data related to the monetary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81C2-E422-4B26-9E7C-54BBBBE50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Philosophy of the Federal Statistical Office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447920"/>
            <a:ext cx="8226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viding aggregate figures for relevant issues of the economy and the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collection according to legal d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716280"/>
            <a:ext cx="8280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vant information is collected independently in different surveys (Example: Hourly wages can only be computed on the aggregate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uge waste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terogeneity on the micro level cannot be exploited for the identification of causa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765520"/>
            <a:ext cx="82296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AC0F-F5C6-485A-A22B-B716291D6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The situation in the middle of the 90‘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cess to micro data from official statistics was almost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interaction between official statistics and the research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earchers had to address directly to the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hibitive cost for access to micro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ttle documentation of avail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uge concern about the potential of de-anonymization of official micro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F1BB-E457-4DA9-932A-C919597FE2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What caused the tipping point at the end of the 90‘s?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rge-scale research project on anonymization of micro data (Hauser/Mü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 a result, the concept of factual anonymization became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morandum by Hauser, Wagner, Zimmermann: Erfolgsbedingungen empirischer Wirtschaftsforschung und empirisch gestützter wirtschafts- und sozialpolitischer Bera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ZA DP No.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F8FC-A6FD-4331-B1F3-FECB080A1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The process triggered by the memorandum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ate 1999, the Federal Minister for Education and Research called a „Commission for the improvement of informational infrastructure between science and statistic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early 2001, the commission published its report („Ways to an improved informational infrastructur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report contained 35 recommendations,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 of research data centres and data service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 of public use files from official micr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 of a Council for Social and Economic Data (RatSW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ate 2001, the Constituing Council for Social and Economic Data wa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2002, the first research data centres were fo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ate 2004, the Council for Social and Economic Data was constit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84A6-B6B5-446C-AB5E-F25DF0A3A9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About the RatSWD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 members, 6 of them elected every two years by a scientist community (researchers with a doctoral degree), the other 6 are mandated by research data centres and data service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ded by the Federal Ministry of Education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ising federal governments with regard to further improvement of data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ommendations regarding the establishment and evaluation of research data centres and data service cent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imulating and supporting projects that might contribute to the improvement of data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motion of scientific off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oving the interrelations between science and offici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RatSWD has been called for six years and is currently undergoing an evaluation of it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860640"/>
            <a:ext cx="216000" cy="289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508640"/>
            <a:ext cx="216000" cy="2887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65D4-6AD6-49E5-A8E6-A1D1DBC60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About the RatSWD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40500" b="39499"/>
          <a:stretch/>
        </p:blipFill>
        <p:spPr>
          <a:xfrm>
            <a:off x="539640" y="1413000"/>
            <a:ext cx="761868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3457-7580-442F-9AEE-780726EC84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0440" y="6091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65ba0"/>
                </a:solidFill>
                <a:latin typeface="Arial"/>
              </a:rPr>
              <a:t>The research data centres</a:t>
            </a:r>
            <a:endParaRPr b="1" lang="en-US" sz="2400" spc="-1" strike="noStrike">
              <a:solidFill>
                <a:srgbClr val="365ba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0080" y="1447560"/>
            <a:ext cx="8226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Research Centre of the Federal Statistical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Research Centre of the Statistical Offices of the Lä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Research Centre of the Federal Labor Agency at the Institute for Employmen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Research Centre of the German Pension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Research Centre at the Institute for Educational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9920-A521-46C1-9778-232D2E485F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02:43Z</dcterms:created>
  <dc:creator> </dc:creator>
  <dc:description/>
  <dc:language>en-US</dc:language>
  <cp:lastModifiedBy> </cp:lastModifiedBy>
  <dcterms:modified xsi:type="dcterms:W3CDTF">2009-04-02T09:08:01Z</dcterms:modified>
  <cp:revision>9</cp:revision>
  <dc:subject/>
  <dc:title>Slide 1</dc:title>
</cp:coreProperties>
</file>