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2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</p:sldMasterIdLst>
  <p:notesMasterIdLst>
    <p:notesMasterId r:id="rId36"/>
  </p:notesMasterIdLst>
  <p:sldIdLst>
    <p:sldId id="256" r:id="rId37"/>
    <p:sldId id="257" r:id="rId38"/>
    <p:sldId id="258" r:id="rId39"/>
    <p:sldId id="259" r:id="rId40"/>
    <p:sldId id="260" r:id="rId41"/>
    <p:sldId id="261" r:id="rId42"/>
    <p:sldId id="262" r:id="rId43"/>
    <p:sldId id="263" r:id="rId44"/>
    <p:sldId id="264" r:id="rId45"/>
    <p:sldId id="265" r:id="rId46"/>
    <p:sldId id="266" r:id="rId47"/>
    <p:sldId id="267" r:id="rId48"/>
    <p:sldId id="268" r:id="rId49"/>
    <p:sldId id="269" r:id="rId50"/>
    <p:sldId id="270" r:id="rId51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notesMaster" Target="notesMasters/notesMaster1.xml"/><Relationship Id="rId37" Type="http://schemas.openxmlformats.org/officeDocument/2006/relationships/slide" Target="slides/slide1.xml"/><Relationship Id="rId38" Type="http://schemas.openxmlformats.org/officeDocument/2006/relationships/slide" Target="slides/slide2.xml"/><Relationship Id="rId39" Type="http://schemas.openxmlformats.org/officeDocument/2006/relationships/slide" Target="slides/slide3.xml"/><Relationship Id="rId40" Type="http://schemas.openxmlformats.org/officeDocument/2006/relationships/slide" Target="slides/slide4.xml"/><Relationship Id="rId41" Type="http://schemas.openxmlformats.org/officeDocument/2006/relationships/slide" Target="slides/slide5.xml"/><Relationship Id="rId42" Type="http://schemas.openxmlformats.org/officeDocument/2006/relationships/slide" Target="slides/slide6.xml"/><Relationship Id="rId43" Type="http://schemas.openxmlformats.org/officeDocument/2006/relationships/slide" Target="slides/slide7.xml"/><Relationship Id="rId44" Type="http://schemas.openxmlformats.org/officeDocument/2006/relationships/slide" Target="slides/slide8.xml"/><Relationship Id="rId45" Type="http://schemas.openxmlformats.org/officeDocument/2006/relationships/slide" Target="slides/slide9.xml"/><Relationship Id="rId46" Type="http://schemas.openxmlformats.org/officeDocument/2006/relationships/slide" Target="slides/slide10.xml"/><Relationship Id="rId47" Type="http://schemas.openxmlformats.org/officeDocument/2006/relationships/slide" Target="slides/slide11.xml"/><Relationship Id="rId48" Type="http://schemas.openxmlformats.org/officeDocument/2006/relationships/slide" Target="slides/slide12.xml"/><Relationship Id="rId49" Type="http://schemas.openxmlformats.org/officeDocument/2006/relationships/slide" Target="slides/slide13.xml"/><Relationship Id="rId50" Type="http://schemas.openxmlformats.org/officeDocument/2006/relationships/slide" Target="slides/slide14.xml"/><Relationship Id="rId51" Type="http://schemas.openxmlformats.org/officeDocument/2006/relationships/slide" Target="slides/slide15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dt" idx="59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5"/>
          <p:cNvSpPr>
            <a:spLocks noGrp="1"/>
          </p:cNvSpPr>
          <p:nvPr>
            <p:ph type="ftr" idx="60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6"/>
          <p:cNvSpPr>
            <a:spLocks noGrp="1"/>
          </p:cNvSpPr>
          <p:nvPr>
            <p:ph type="sldNum" idx="61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83E7-9D2C-4535-9234-F139B5DA966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merging standard for documentation describing social science data (survey metada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upports longitudinal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fines relationships betwee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tudies, Questionnaires, Questions, Datasets, Variables, Concepts, Codings / Calculations, and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’ve implemented a subset of DDI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ied example of how we have mapped the DDI XML to DB 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Item is part of a Question Scheme, by DDI hierarc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Item has a Response Domain.  This might be a simple domain, or a reference to a Code Scheme or Category Sch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Constructs have a single Question 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s and Concepts can refer to multiple Question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arious DDI elements are now shown as database 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ationships are all capt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:1 and 1:n relationships use a foreign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:m relationships use a joi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improve the researcher interface, we need a powerful search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ers might be searching for specific variables, concepts, or words/phrases in questio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integrated the Sphinx search engine into Questas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-text indexing, directly against th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m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s down words into their base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mp, jumps, jumped, jumping all map to the stem “jump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king &amp; relevance of search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dibly fast.  Much faster than native SQL sear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ERdata collects data from a number of surveys, both within the Netherlands and throughout Eur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document the survey questions and how we administered the surveys, such as the sche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want to document the datasets and give detailed information about each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eys and metadata can be in different languages.  Our data dissemination system should handl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goal is to disseminate the data and metadata in one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files (in Stata / SPSS format) available for down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datafile, the metadata will also be available.  This is info that is often found in a code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esire an intuitive website for administrators to create and manage metadata, and for researchers to browse and search survey meta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ey of ~5000 households in the Nether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00 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eys are conducted in Dutch.  Data is disseminated in English and Du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el members answer a different questionnaire each mon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survey questions are asked once per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studies may be run on different time scales, or to subsets of the pa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Labor study for pregnant women.  One survey after they indicate that they’re pregnant, another after the baby is bo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sets are prepared each mon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ability across the datasets is vital, so researchers can combine datas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b application – back-end database.  Web pages are generated using data from the database and delivered to the end user’s web brow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orks stand-alone or integrates into another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anage &amp; sisseminate survey meta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y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naires /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collection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sets /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ings / calc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rator Interface is used internally by CentER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load data files (SPSS, Stata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survey meta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ble Security - Manage users and permis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er Interface is used by researchers around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, intuitive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asy integrates seamlessly into the LISS Data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c web pages are handled by a Content Managemen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about the board, panel recruitment process, submitting proposal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ta Archive pages are handled by Questas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links allow easy navigation between all of the p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Cake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odel-View-Controller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uestasy written in 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orks with many different operating systems, web servers &amp;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 use Apache on Windows and MySQL on Linux.  Future move to Linux web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atabas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atabase tables correspond to DDI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elationships between tables correspond to DDI heirarchy and 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62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 request is processed (this is standard MVC functional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makes a request for a web page.  This request can be to view a page, or to submit data from a form.  This HTTP request comes into the Dispatcher, via the web ser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quest is validated.  The user is authenticated and the request is authorized.  If this security test passes, then the appropriate function (action) in the controller is cal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roller process the requ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roller calls functions in the model to save/retrieve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el send the appropriate request to the database (using SQ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tabase returns th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el converts the raw data into an appropriate format, and returns it to the contro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roller processes the data and sends it to the View, which converts the data into nicely formatted 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TML is sent back to the client web brow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for easy modifications to the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ustomize the application by changing the View (and perhaps the Controll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extend the application by changing the Model /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8ECE01-535B-49E8-B0D8-4CEF1AA3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51C26C-4FEA-46FA-AC9A-6D01ADA73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19E2BF-2807-404D-AC17-C623F3537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91E43B-4804-42AA-B9C6-013DA428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217989-26AA-4FFE-8495-6EA24A7B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71FBB9-B932-4A48-BD18-13B69DAC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A33A6C-6D12-4B0D-AB67-831455D0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208C53-42B8-4333-A91B-42B7C5F2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3567D7-8A7D-426D-8796-A883EFAC2F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B9C16-19A9-42A4-8FAD-AC8A92929E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19EF0-C7FE-4121-9046-8CB59D00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6C47B-5BAD-4E67-B3DE-3EA5CC49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C3A05-A1EC-4D1D-AB48-4341C3F9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D3A6C-BD72-470F-9D14-C9E276176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667B3-3711-4433-B521-AB33BC74B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9EFEE-2A42-49BD-A3B9-F87575D4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F90FA-EFBB-47CA-8F6E-DA71EB01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523BF-4A45-4E10-B595-87EE018A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91BAE-0A6C-4F94-8DBB-38F4CD05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A91BD-398F-4264-83A5-A032C0AB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22760-D723-4AE7-8C40-AF40FE6572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288CBC-B34D-4FA0-BDEC-42C4B04274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E5F464-0A55-4C36-B8CB-2B1F2870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B0E0E6-6B53-4280-8325-ABF1D887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9B281E-C388-4047-A7FE-02F96201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A29E22-4E30-4CC7-97D4-7E315D762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EA49FA-A882-4E80-8ACD-9A0C43FF4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345415-4CBC-46C7-8C38-D3161418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024AA4-20AA-4D9A-9B36-64FDFCC5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23CFF6-BB5E-49C5-9193-31572074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F73D4-B26E-49FC-B6B6-B8B149459C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61DAD4-66CF-4162-BCA5-6DB3E997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BE4811-D4C4-4018-9D49-A089A003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7274F4-4ED4-4FC9-A1E2-73DBF95B78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08453F-83D5-4A81-AD5B-80CB887013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2B47CE-6EF5-4C11-8A30-045B62D5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A46E1B-EFF3-4471-AD1C-9AE83E54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DF5C2D-A28E-4836-BE7F-FD0CEDEB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2BA092-76E6-4229-991D-DE62E82E9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E6625F-7304-4F50-A5E8-9CAB7F937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9B9698-F279-441F-8AE1-9FD1F226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FFE4C-2C21-42A0-8926-B79C0080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CE8533-7D0A-4A71-A15D-4007F58F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6074C3-187A-4CD4-BE43-E5628D23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0EB9AF-72DF-414A-ACA3-E5CD1022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4E6613-5864-4DF8-88F8-83B51DDE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768688-DFFD-41B8-97EF-3066E03137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216AF-EF0D-4B9B-A7CA-12888172B2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3E9AC-8FB2-44E9-8644-8FD34D78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99C39-E638-4B0B-8DC8-AE736E3C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344FE-7175-4338-8EE5-45E0CC1D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3CEFB-8BC9-4AF8-85DB-898F2E3C0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CEE9B-599C-48B5-8E80-53AF19C6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F7D9B-6AF9-43F7-9B7F-186AED163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0F615-E31C-4F5F-A566-5A7ED8C0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9F4A6-B705-47AA-9450-EB8F2115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33D3A-1D8B-4DC1-9985-91FBD11C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F8E3D-64D8-4AEE-BAAC-05A9F225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23E79-AB8D-4EF8-98AE-D3EE89E7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060A5-9F66-47E9-9CBA-44660C800E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E3D823-CEEC-4300-9EB7-861CD1E902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C8B2B8-C22F-4FC3-A4D6-D2EEC89B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214EDD-358C-4793-8B2E-AF8DD3FB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026A3-CA78-4BCD-A7F3-45FBEC58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1B34C3-6C8B-409C-94CC-9CB62EAC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538474-0D17-4C7D-944E-DC35B32C1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B1BB66-1349-40F7-9728-2843D7902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E39ADF-A459-4A6A-A9CF-3FDA7DE6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CF6F71-595B-4804-9435-AEA194BA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E1185F-B6BC-4AD7-86B6-60F7F56F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BDC56A-2BE3-42E6-B137-A356E9F7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651A9A-0AFF-4EB0-A2FA-892400A9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0BFDF6-2294-488B-B710-0E48DB20BC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FBA3E1-4EA3-4683-98A9-0E33AC4F42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CECFA-917D-4A9D-AB46-D4DF00B8B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04186A-6532-4FB3-9405-D9935685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02B668-A0E4-4446-965B-D205A924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0BE218-FD9B-4853-AE6F-8303BA9D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44F4FA-C998-42BD-B6E6-FF9995A70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38DEE3-0E3E-4807-9814-241988B6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A38AAE-D1AD-413B-B0DB-0FB99298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431721-48A5-490A-8914-59E8DC02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5A902E-DBB8-407D-B347-55BB2D7B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181820-FB2C-4751-9C0C-D25C25DC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DFD545-F2A0-4B9C-B18D-EC82749C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DF7C9-6BA8-4030-880D-443B0A5B1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050EB4-F735-4E33-B64E-EBB21D985E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B25B0-9D8E-4EEC-ADF8-C0F6905E67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531690-ECEB-461C-B521-47721E6F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67892E-4770-4013-85CE-5EA7C6BE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B3A90-261D-4B4D-B4BC-BBEF922C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44870C-151F-48E4-B85F-CEB7B2900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0B7157-091C-4D42-9834-1C79B8BDE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444975-1876-4329-9572-03D8B5A6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2E3C4-BB34-4CDE-A0B9-E7D2E7AF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90994-859F-491F-B79D-2E27E25A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8DA24-857D-4554-8556-76C1A4D9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623A24-FDC1-43B3-9922-FD2EC5F1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E4D2BF-220A-481F-938B-2C9ABA3E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2CB381-BA5B-4D94-A4D9-6E2AA857DC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A42F8B-8F4F-4EB7-85B2-9B5075C34E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F09580-9F26-445C-9AAF-D053B4EC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D287DE-F51E-4411-A7CB-1B619819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8375F7-85EC-4BCB-B735-D5C5A1E9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84EEA4-29E9-484D-BD84-F7B263318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9F9EB7-4734-4353-923D-AF18604DF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9E607C-E945-4024-86E1-F1CDE4F5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BA1FC-FCCD-41AA-8987-664878B8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7F09CF-3DA2-414C-9734-6BCC7386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38FD14-AC74-4294-A9A8-1C1AF5A2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EA8117-0DD8-4887-9CA6-0ECAFC3A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856A60-F4CE-4352-BECB-7EF81B8F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5753BD-DCCA-472E-A885-34290EBE84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0F6B4-B210-47EF-B869-5CACAC7D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F2BAD6C-21F3-4470-9EDF-E650D8D779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7D50833-1F30-41E4-8090-D00ABC97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00C71E0-11AB-4431-91BF-114165BA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7F1C9-E1AE-42AC-A231-7140F241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0C452EB-B45B-4F0E-B29C-A87570DE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DCBCAB6-1284-46C9-BDCF-530692E12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A34A546-FC6E-401E-8BD7-32C3E9C99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2055EEE-8386-4093-A192-4806A077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45FA8E8-E75F-42F0-A1C9-A12A38C4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42D2807-66DF-4877-BD0A-62654F34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1548B2A-4042-4B77-976E-8F6C0F08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DBD6F51-F452-4C9E-A15C-3A7DC961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0D17CBA-9EA4-445E-B2D2-69A61F6017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5D3A9-155C-4E1C-900B-F847D758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8ACD3-8B73-4128-AAE1-9B86113D78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388687-7C4E-456D-88D8-85045E8B6B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B49D24-3539-4AED-AD8A-B0CA5413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4742B6-DE18-48D3-91E0-02E888A2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3751F4-52BC-4577-BC71-9BA767FC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A7E0B8-6B9F-444A-B1EA-B55CDEFD5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831193-E977-45FE-984F-601B5336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01D1A5-9665-4ABB-B188-C31B5E5E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037B38-68CF-4A11-8500-25552540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E7505E-5B61-4BAD-A28A-13B832F5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B21BEE-586E-4223-9718-AEA5277E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62DDB1-0108-4195-A4CF-7B827748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4BAF96-5EC5-4CA5-9AF6-482E6C8BA4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E43C41-9460-47E7-A1FD-AF91F7A945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8F0CCC-3246-4BF6-8517-B9CB7107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B29F04-B5B6-4C78-BF59-C3153667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9DDE3F-0721-4A77-95A2-5589EE17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027B28-A4D8-4234-89E3-6B56CE114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43B464-763A-4346-969F-10284B304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771B48-4E9E-47B0-8874-5BA29ECE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41EB17-FF86-48D4-8696-71C5E102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9DB25D-7928-4E20-93B5-3D041FEF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261682-252D-4C27-80E2-E8206EC6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ED60F1-9472-4793-8602-B5020B4C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18FBFF-A6BD-420C-B6C1-17E71265E3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540754-DEB1-4844-9CE6-14007916D3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AEBF92C-3D2E-4BFD-81C4-029BEC17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2060AE6-916B-439D-9532-F66723FB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D28B82B-F4CF-4634-96DE-C68A0230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A5DE61-7FF1-42F7-B428-DBF575550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332A76-2740-4E2C-A508-A4E9BE826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D0F35F-205A-48D6-A1E0-199B43C2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B8D991C-C986-4176-B2BD-490747C1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85FDB5-61F3-4E79-AC1C-64BAF438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B390E4-F65A-40B6-AE74-10E22E26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98EA5C-5D27-40B3-8745-90DA0B81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C7D6DF1-0F98-48D2-AC4F-B396EF88A3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8696424-ECE9-4D63-A052-2828C91665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EBE8B65-2BDA-4A49-8A3E-A1696824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26324C1-DC04-44EA-A8EF-509B7941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219B508-4FBA-42EA-B22A-D7223257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5B775D9-4D44-4D6C-9687-6F48113EB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0D32FB9-A48C-410C-990A-29216DC22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F66051A-E30B-43C5-B3CE-17DEC7BD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040C475-CDC6-492D-B1A4-10E65CB2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5C2A8C8-0E4B-4C7E-BE18-CCBC6B6D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39F9E00-4AC6-4C7C-B797-CB3F46E2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A57ECA0-0F23-4FDC-8959-2FA232A8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BAA36AF-D5A0-4F43-8716-43768E37FD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5335B0-5BB7-4E39-9B26-D7DC6EF51A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6FBF79-0DE6-4F0B-88A4-B4131787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293527-E94A-47F6-A85B-43DDE49A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9BBCA7-D749-4027-BA6F-E6B0E73D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834A26-8593-4F10-8B55-44DC6F99C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B33676-C298-4165-A548-CD7B6FB7F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5EE7D9-CB50-44E7-B186-D902C242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2EB3F1-59D8-451A-B8CF-E6FC3D07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A6F31C-5919-42DD-B8A2-5592BCA1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B0D19B-00AC-476B-9DE4-E65E9FDF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58948B-CD72-4B58-9D62-D317E99A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E1237E-9699-4449-9B0D-95F475D792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8B8B3BE-A980-4406-80C6-FC92633B16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E0ADCEE-FAB8-449C-88D6-1BB94748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0A3FC61-C1CC-4160-90AF-CCA1AC04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4D047E8-D132-4642-8B1C-FD67D363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4BA5A0E-DC94-4EE3-96E5-E387545FE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AC8DBF3-FF23-48E9-A5D5-C776D9D5E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DFDC24E-3BA8-4803-9DBF-5831DFA5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A0F00B9-F8EB-4454-8E0B-28B1D6BF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C9730AC-2356-49CF-B5A5-CE622BBA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2E0A4CF-BE1B-4432-B41C-89BE5CC4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A97DEB2-7ADC-4C55-83A9-B7E438C7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2CCED39-777F-4875-A5CB-641B79688F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E747209-495B-418D-BF4D-F53747015C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77ECCBB-E75B-4CCB-8BB0-DBDF9599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F909972-EB38-4B6F-A583-017C2022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BC14872-33A1-4B1E-A59A-CFF3CC91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50A65AE-376F-4759-95CB-0B1665599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E366A48-4981-4820-A821-540B22872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EC291BB-0DA4-4FD0-8249-2C900D01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9A05EFD-7C03-444D-A8BB-CC8322C2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70798A3-D2DC-4678-8976-50A126B7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A6C06F4-FA67-4FFC-A9A5-84D8D7EF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074FE57-3773-4FCE-8ADB-10C982F0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8171E0D-7322-4E6C-8EDC-EFD41F679C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DDDAEB-A978-4648-9027-624795BC9A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94C0C1-B4EB-4BF1-A67B-52884122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1FC355-0A3D-45C7-9435-B4CA63FE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03E357-B2FE-44A4-8645-FE03BF81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793BC8-CFCD-4102-AD34-8B39DA334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32DA6B-1C17-48B6-A53E-D68CDD37E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D2492A-C2CD-4827-B062-D610B050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81218E-5C7B-4790-BB8C-2FE00209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FA4AE6-3E5E-4129-89DC-CE45D61D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855DAE-816A-42BF-83E1-C6F2E059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73816C-ABEB-4136-87F4-9E43C0A6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A29710-88BC-4068-A353-C947044943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B350603-7B16-42B8-B2E9-5726F7B93E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9347008-6285-4779-9824-9679912C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8BCEBEC-445D-4823-BF79-58DA9A55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693B8E4-13A1-4287-82A9-262EB25F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4FECB7D-C29B-44A6-8DE9-802F4B52F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7D7FC98-CDF8-4BC8-8038-72FF4A025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0DA039A-9BE8-48D1-8159-916153A6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579957F-1198-48D5-BFA4-81BD0748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12443A5-5AA2-4802-AC5E-09AB540C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EFC52A7-0340-49BE-9C13-580D37D9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9B2151C-C13A-49CB-A0D5-8DBDF128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C0DA15B-80AF-4AB4-81F0-CB8CDD5A8C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9AB2E0A-761E-4041-BAF8-4B8C0783B2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6D1A51F-FFBE-4BDB-A4A6-7F7C6916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D055EC7-C24F-49EA-8D43-089F6A3B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DAC6FFB-14E2-4C6A-89CE-3335F2CC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8A7A81D-64BF-4F52-896A-824387A76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7A2D5C8-C882-43D3-B734-835FB3368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128F3C1-7C89-455B-BCF2-919F0AA8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F4BDAB0-20BA-4F1C-9344-EB447463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D169B66-DD58-4C7C-9223-F549D4BE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0B7D83F-37C4-4DFF-BBB3-A48A1122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353A2ED-A728-423C-BED7-EE4F1DCD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093411E-EDFD-4B68-95FE-23571E88E2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965B09-802D-493C-8EFF-24D82A41DA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3D67FD-F5DE-418B-B1CE-AE692D3F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1FAF63-56FB-4DEF-B033-0A86439E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EBDFD1-84E9-41C6-8516-0198766B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F698CB-492F-4F9C-8651-27C141343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297604-64C7-4D81-9DCF-E7017B514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8F3A05-F280-4AA2-8440-70361D86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9848BC-D1D5-4A8C-BF8C-C02F9208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EA7E5F-B45E-47E6-9C2D-6200D787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2F226E-2FEB-468D-A6B5-6245D20A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C57653-D8A8-4F4B-86D0-0CE34336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D0E7E6-B441-4EBB-8909-F01B2981CC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1985A6D-0E2B-49FB-94C1-FCC0A5347D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E1EBAD0-1FAD-4D1C-9DFD-B1F5F89E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01F4A16-00D8-429C-A375-ABB8E2D3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9668EFF-0D82-4C90-B879-1B4CA844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26B943F-E9B9-49F3-B530-AE8979F3C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F864340-1631-4436-8117-AB2BF0456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C53C3BB-8AC3-4508-827E-5142CD63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6D2522B-E290-48A4-A0AF-34A06CA8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27C7F84-21D0-4B1E-8D1B-29EBC931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5936C81-4D50-4C39-8EAC-CFADD072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28664A9-C808-44A6-8DE0-712B8C27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4DDC920-512A-4848-854E-4AFCEE1B8A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93DB24B-EF73-4337-90CE-0C8C493A53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7D3AC78-DB6F-4C80-9899-F5EDAF0F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267DB06-188E-4EB8-9325-8C9D284D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219F288-3ED0-484F-87F1-020F770A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B8624A3-49FD-4B4F-B380-2CAF2FE7A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42014C9-8B81-4DA1-82B3-581C4D7FC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3F9C6CF-E8CD-4387-AE18-B3AEDF82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FEA08DE-8798-445C-B92E-837CA605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A25087B-15B2-42AE-8BA2-77CD966C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B072D82-042E-440B-AC08-3891E1FD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68AFFDB-2972-4D73-A6D0-746CA25C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CF26FDA-3651-4909-8CC7-B6E1E63F59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E73D1E-B4D3-4F10-A1A7-80EF20A249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E2D81-9D06-49F1-AB04-BCFB9984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CDF476-A8BC-43ED-8B16-7C1A925D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2A43C-0395-4035-BD74-61DEBBCE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9C902-19CF-43E2-B8F0-B210D1E4E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33FEC-1459-41F5-914F-DB5A39D9C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26805-B53A-4EF2-9BDD-1C7A78D4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D8FE0-98E9-4D03-ADE6-0129C880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BBE44-92A1-4323-99EC-9D567303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A2E7C-4AC7-402B-9A3A-1172819A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15B35-2088-4C63-AD6F-01BB7C69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620D8-51EF-4B87-8688-C72F8887CA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224078-EAA0-487D-810D-047693F3CC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2DF6CC-EE3B-4473-B8DD-BDB6ABF4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0394CC-0BAE-4303-A2E7-4F3219DC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0A65BA-A8AE-4C5E-A958-193C25D8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76F37E-1574-4185-BA4B-A604CD50F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8ECBB6-C83E-45EF-8096-771D59266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C9CAA7-D5BE-4D2A-9040-421F1AF8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EB8D7F-9340-427B-A7BC-589C4EF0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447431-46BA-4245-9432-105D597B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6E55FA-B06F-418E-BD6D-BE5CC777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D7D9C7-3486-4E8B-80C3-2384922C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9B746D-03F7-4940-95E8-E0FCC9793C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829A0-1786-4157-9246-71385F5F08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4EAC6-8F36-4B65-9B8B-8F75020A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2A2EA-5319-4992-B0E0-B6A60706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2B9E0-7A95-47A7-BE4C-3096D658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EC143-30F3-4AF0-ACF3-077B3A2E1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81876-7AC2-4459-82DC-0883AD466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1AA2E-3045-4B92-BCF6-C3029F32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742C2-ACAB-41B1-92E1-CF9A3527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25EE9-FF11-458B-B668-2786E4B6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CBADB-E6D7-4A53-B768-70B48AE5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F6746-4ACE-4583-936E-054B0829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A090D-175D-4FB1-B2D6-5E7CD438B6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63EDE3-F7F9-401D-831B-36E8F89579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DA915C-3631-4ECC-B856-3F9841F3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0DFF83-9264-431D-875B-AA2162AD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4546F7-31C9-4484-B4DE-AE3180BC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7C1DD8-2695-4B67-B5DE-F27F71649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00B87E-F664-42FD-A31A-C0CE592D2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44B45B-1975-40D6-81A0-00152D8B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F51EB2-7B79-4700-A08C-18B0D709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4E6D3C-8095-47E0-912B-E703EF36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B4C3AE-6EE2-48C2-A60E-E1AD22D1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641961-A079-4370-BBDB-0FCE82DD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1164BD-5A6F-4FB3-B0EB-8B09C19AA8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966767-5147-43E9-A5F0-861E67CD5C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F5E56D-7C7F-49E8-B1BE-0659263F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45420C-8DF4-4DC8-ADA4-6C276643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8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5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6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7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8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9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0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76360" y="2733480"/>
            <a:ext cx="7416720" cy="76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1476360" y="3789000"/>
            <a:ext cx="7416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4"/>
          </p:nvPr>
        </p:nvSpPr>
        <p:spPr>
          <a:xfrm>
            <a:off x="108000" y="6381720"/>
            <a:ext cx="10792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sldNum" idx="15"/>
          </p:nvPr>
        </p:nvSpPr>
        <p:spPr>
          <a:xfrm>
            <a:off x="108000" y="6049800"/>
            <a:ext cx="107928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CC3B-2088-46B7-A817-D2BEFFBD8B77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76360" y="430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1476360" y="1483920"/>
            <a:ext cx="7416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16"/>
          </p:nvPr>
        </p:nvSpPr>
        <p:spPr>
          <a:xfrm>
            <a:off x="108000" y="6381720"/>
            <a:ext cx="10792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sldNum" idx="17"/>
          </p:nvPr>
        </p:nvSpPr>
        <p:spPr>
          <a:xfrm>
            <a:off x="108000" y="6049800"/>
            <a:ext cx="107928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9A32-5B5F-494F-80F7-056A2572D61A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3"/>
          <a:srcRect l="8216" t="25084" r="10955" b="23411"/>
          <a:stretch/>
        </p:blipFill>
        <p:spPr>
          <a:xfrm>
            <a:off x="6761160" y="6303960"/>
            <a:ext cx="2125800" cy="554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76360" y="2733480"/>
            <a:ext cx="7416720" cy="76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1476360" y="3789360"/>
            <a:ext cx="741672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18"/>
          </p:nvPr>
        </p:nvSpPr>
        <p:spPr>
          <a:xfrm>
            <a:off x="108000" y="6381720"/>
            <a:ext cx="10792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sldNum" idx="19"/>
          </p:nvPr>
        </p:nvSpPr>
        <p:spPr>
          <a:xfrm>
            <a:off x="108000" y="6049800"/>
            <a:ext cx="107928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D6CE-2603-4C28-8779-0C15071B876D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3"/>
          <a:srcRect l="8216" t="25084" r="10955" b="23411"/>
          <a:stretch/>
        </p:blipFill>
        <p:spPr>
          <a:xfrm>
            <a:off x="6761160" y="6303960"/>
            <a:ext cx="2125800" cy="554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76360" y="2733480"/>
            <a:ext cx="7416720" cy="76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1476360" y="3789360"/>
            <a:ext cx="741672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0"/>
          </p:nvPr>
        </p:nvSpPr>
        <p:spPr>
          <a:xfrm>
            <a:off x="108000" y="6381720"/>
            <a:ext cx="10792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sldNum" idx="21"/>
          </p:nvPr>
        </p:nvSpPr>
        <p:spPr>
          <a:xfrm>
            <a:off x="108000" y="6049800"/>
            <a:ext cx="107928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A4EE-DD25-4C89-A6D0-BAAAD176A158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3"/>
          <a:srcRect l="8216" t="25084" r="10955" b="23411"/>
          <a:stretch/>
        </p:blipFill>
        <p:spPr>
          <a:xfrm>
            <a:off x="6761160" y="6303960"/>
            <a:ext cx="2125800" cy="554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76360" y="2733480"/>
            <a:ext cx="7416720" cy="76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1476360" y="3789360"/>
            <a:ext cx="741672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22"/>
          </p:nvPr>
        </p:nvSpPr>
        <p:spPr>
          <a:xfrm>
            <a:off x="108000" y="6381720"/>
            <a:ext cx="10792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sldNum" idx="23"/>
          </p:nvPr>
        </p:nvSpPr>
        <p:spPr>
          <a:xfrm>
            <a:off x="108000" y="6049800"/>
            <a:ext cx="107928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68BD-6FE3-465E-9BAE-654ACCC160A0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3"/>
          <a:srcRect l="8216" t="25084" r="10955" b="23411"/>
          <a:stretch/>
        </p:blipFill>
        <p:spPr>
          <a:xfrm>
            <a:off x="6761160" y="6303960"/>
            <a:ext cx="2125800" cy="554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476360" y="2733480"/>
            <a:ext cx="7416720" cy="76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1476360" y="3789360"/>
            <a:ext cx="741672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24"/>
          </p:nvPr>
        </p:nvSpPr>
        <p:spPr>
          <a:xfrm>
            <a:off x="108000" y="6381720"/>
            <a:ext cx="10792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sldNum" idx="25"/>
          </p:nvPr>
        </p:nvSpPr>
        <p:spPr>
          <a:xfrm>
            <a:off x="108000" y="6049800"/>
            <a:ext cx="107928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E131-2ECC-4709-BF41-E1D7B3EF4A80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3"/>
          <a:srcRect l="8216" t="25084" r="10955" b="23411"/>
          <a:stretch/>
        </p:blipFill>
        <p:spPr>
          <a:xfrm>
            <a:off x="6761160" y="6303960"/>
            <a:ext cx="2125800" cy="554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476360" y="2733480"/>
            <a:ext cx="7416720" cy="76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1476360" y="3789360"/>
            <a:ext cx="741672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26"/>
          </p:nvPr>
        </p:nvSpPr>
        <p:spPr>
          <a:xfrm>
            <a:off x="108000" y="6381720"/>
            <a:ext cx="10792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sldNum" idx="27"/>
          </p:nvPr>
        </p:nvSpPr>
        <p:spPr>
          <a:xfrm>
            <a:off x="108000" y="6049800"/>
            <a:ext cx="107928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5290-77F8-415F-87F6-1CF73550F81E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3"/>
          <a:srcRect l="8216" t="25084" r="10955" b="23411"/>
          <a:stretch/>
        </p:blipFill>
        <p:spPr>
          <a:xfrm>
            <a:off x="6761160" y="6303960"/>
            <a:ext cx="2125800" cy="554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476360" y="2733480"/>
            <a:ext cx="7416720" cy="76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1476360" y="3789360"/>
            <a:ext cx="741672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28"/>
          </p:nvPr>
        </p:nvSpPr>
        <p:spPr>
          <a:xfrm>
            <a:off x="108000" y="6381720"/>
            <a:ext cx="10792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sldNum" idx="29"/>
          </p:nvPr>
        </p:nvSpPr>
        <p:spPr>
          <a:xfrm>
            <a:off x="108000" y="6049800"/>
            <a:ext cx="107928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0952-D0F7-407A-939D-3AB6E34AAA6F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3"/>
          <a:srcRect l="8216" t="25084" r="10955" b="23411"/>
          <a:stretch/>
        </p:blipFill>
        <p:spPr>
          <a:xfrm>
            <a:off x="6761160" y="6303960"/>
            <a:ext cx="2125800" cy="554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476360" y="430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1476360" y="1484280"/>
            <a:ext cx="7416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30"/>
          </p:nvPr>
        </p:nvSpPr>
        <p:spPr>
          <a:xfrm>
            <a:off x="108000" y="6381720"/>
            <a:ext cx="10792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sldNum" idx="31"/>
          </p:nvPr>
        </p:nvSpPr>
        <p:spPr>
          <a:xfrm>
            <a:off x="108000" y="6049800"/>
            <a:ext cx="107928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315C-F10A-4BCF-9033-3BC498A744B4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360" y="430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1476360" y="1484280"/>
            <a:ext cx="7416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108000" y="6381720"/>
            <a:ext cx="10792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sldNum" idx="2"/>
          </p:nvPr>
        </p:nvSpPr>
        <p:spPr>
          <a:xfrm>
            <a:off x="108000" y="6049800"/>
            <a:ext cx="107928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4EAC-2405-4669-A6BD-28DA1E7A0D9A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23640" y="549360"/>
            <a:ext cx="8569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dt" idx="32"/>
          </p:nvPr>
        </p:nvSpPr>
        <p:spPr>
          <a:xfrm>
            <a:off x="108000" y="6381720"/>
            <a:ext cx="10792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476360" y="2733480"/>
            <a:ext cx="7416720" cy="76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1476360" y="3789000"/>
            <a:ext cx="7416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dt" idx="33"/>
          </p:nvPr>
        </p:nvSpPr>
        <p:spPr>
          <a:xfrm>
            <a:off x="108000" y="6381720"/>
            <a:ext cx="10792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sldNum" idx="34"/>
          </p:nvPr>
        </p:nvSpPr>
        <p:spPr>
          <a:xfrm>
            <a:off x="108000" y="6049800"/>
            <a:ext cx="107928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DF59-EFF9-4C6C-A2F1-1C74A5AE55AD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476360" y="2733480"/>
            <a:ext cx="7416720" cy="76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1476360" y="3789000"/>
            <a:ext cx="7416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 type="dt" idx="35"/>
          </p:nvPr>
        </p:nvSpPr>
        <p:spPr>
          <a:xfrm>
            <a:off x="108000" y="6381720"/>
            <a:ext cx="10792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 type="sldNum" idx="36"/>
          </p:nvPr>
        </p:nvSpPr>
        <p:spPr>
          <a:xfrm>
            <a:off x="108000" y="6049800"/>
            <a:ext cx="107928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9DC5-4C76-41AC-9883-D11637309AC7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476360" y="2733480"/>
            <a:ext cx="7416720" cy="76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1476360" y="3789000"/>
            <a:ext cx="7416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 type="dt" idx="37"/>
          </p:nvPr>
        </p:nvSpPr>
        <p:spPr>
          <a:xfrm>
            <a:off x="108000" y="6381720"/>
            <a:ext cx="10792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 type="sldNum" idx="38"/>
          </p:nvPr>
        </p:nvSpPr>
        <p:spPr>
          <a:xfrm>
            <a:off x="108000" y="6049800"/>
            <a:ext cx="107928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E07C-F8F0-425A-BD78-5A1D5B95DA1D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476360" y="2733480"/>
            <a:ext cx="7416720" cy="76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1476360" y="3789000"/>
            <a:ext cx="7416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 type="dt" idx="39"/>
          </p:nvPr>
        </p:nvSpPr>
        <p:spPr>
          <a:xfrm>
            <a:off x="108000" y="6381720"/>
            <a:ext cx="10792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 type="sldNum" idx="40"/>
          </p:nvPr>
        </p:nvSpPr>
        <p:spPr>
          <a:xfrm>
            <a:off x="108000" y="6049800"/>
            <a:ext cx="107928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82F8-7D8E-440F-8ACC-B886D3218358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476360" y="2733480"/>
            <a:ext cx="7416720" cy="76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1476360" y="3789000"/>
            <a:ext cx="7416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 type="dt" idx="41"/>
          </p:nvPr>
        </p:nvSpPr>
        <p:spPr>
          <a:xfrm>
            <a:off x="108000" y="6381720"/>
            <a:ext cx="10792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 type="sldNum" idx="42"/>
          </p:nvPr>
        </p:nvSpPr>
        <p:spPr>
          <a:xfrm>
            <a:off x="108000" y="6049800"/>
            <a:ext cx="107928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3151-FD0D-4BEA-A9F5-196F4D0EAB42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476360" y="2733480"/>
            <a:ext cx="7416720" cy="76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1476360" y="3789000"/>
            <a:ext cx="7416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dt" idx="43"/>
          </p:nvPr>
        </p:nvSpPr>
        <p:spPr>
          <a:xfrm>
            <a:off x="108000" y="6381720"/>
            <a:ext cx="10792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sldNum" idx="44"/>
          </p:nvPr>
        </p:nvSpPr>
        <p:spPr>
          <a:xfrm>
            <a:off x="108000" y="6049800"/>
            <a:ext cx="107928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3038-3462-4EE2-8AA2-541755CFA030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476360" y="430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1476360" y="1483920"/>
            <a:ext cx="7416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45"/>
          </p:nvPr>
        </p:nvSpPr>
        <p:spPr>
          <a:xfrm>
            <a:off x="108000" y="6381720"/>
            <a:ext cx="10792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sldNum" idx="46"/>
          </p:nvPr>
        </p:nvSpPr>
        <p:spPr>
          <a:xfrm>
            <a:off x="108000" y="6049800"/>
            <a:ext cx="107928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188E-3BC7-4CD8-AE10-C7FC0637052E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4" name="" descr=""/>
          <p:cNvPicPr/>
          <p:nvPr/>
        </p:nvPicPr>
        <p:blipFill>
          <a:blip r:embed="rId3"/>
          <a:srcRect l="4784" t="20067" r="2734" b="5017"/>
          <a:stretch/>
        </p:blipFill>
        <p:spPr>
          <a:xfrm>
            <a:off x="7289640" y="6327720"/>
            <a:ext cx="1598760" cy="53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1476360" y="2733480"/>
            <a:ext cx="7416720" cy="76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1476360" y="3789360"/>
            <a:ext cx="741672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 type="dt" idx="47"/>
          </p:nvPr>
        </p:nvSpPr>
        <p:spPr>
          <a:xfrm>
            <a:off x="108000" y="6381720"/>
            <a:ext cx="10792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 type="sldNum" idx="48"/>
          </p:nvPr>
        </p:nvSpPr>
        <p:spPr>
          <a:xfrm>
            <a:off x="108000" y="6049800"/>
            <a:ext cx="107928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E20A-55AC-4F2A-8861-D1CE72BEAD6F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5" name="" descr=""/>
          <p:cNvPicPr/>
          <p:nvPr/>
        </p:nvPicPr>
        <p:blipFill>
          <a:blip r:embed="rId3"/>
          <a:srcRect l="4784" t="20067" r="2734" b="5017"/>
          <a:stretch/>
        </p:blipFill>
        <p:spPr>
          <a:xfrm>
            <a:off x="7289640" y="6327720"/>
            <a:ext cx="1598760" cy="53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3640" y="549360"/>
            <a:ext cx="8569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3"/>
          </p:nvPr>
        </p:nvSpPr>
        <p:spPr>
          <a:xfrm>
            <a:off x="108000" y="6381720"/>
            <a:ext cx="10792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476360" y="2733480"/>
            <a:ext cx="7416720" cy="76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1476360" y="3789360"/>
            <a:ext cx="741672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 type="dt" idx="49"/>
          </p:nvPr>
        </p:nvSpPr>
        <p:spPr>
          <a:xfrm>
            <a:off x="108000" y="6381720"/>
            <a:ext cx="10792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 type="sldNum" idx="50"/>
          </p:nvPr>
        </p:nvSpPr>
        <p:spPr>
          <a:xfrm>
            <a:off x="108000" y="6049800"/>
            <a:ext cx="107928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1A67-DA88-411E-BEF0-2B6ADA06DC45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6" name="" descr=""/>
          <p:cNvPicPr/>
          <p:nvPr/>
        </p:nvPicPr>
        <p:blipFill>
          <a:blip r:embed="rId3"/>
          <a:srcRect l="4784" t="20067" r="2734" b="5017"/>
          <a:stretch/>
        </p:blipFill>
        <p:spPr>
          <a:xfrm>
            <a:off x="7289640" y="6327720"/>
            <a:ext cx="1598760" cy="53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476360" y="2733480"/>
            <a:ext cx="7416720" cy="76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1476360" y="3789360"/>
            <a:ext cx="741672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dt" idx="51"/>
          </p:nvPr>
        </p:nvSpPr>
        <p:spPr>
          <a:xfrm>
            <a:off x="108000" y="6381720"/>
            <a:ext cx="10792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sldNum" idx="52"/>
          </p:nvPr>
        </p:nvSpPr>
        <p:spPr>
          <a:xfrm>
            <a:off x="108000" y="6049800"/>
            <a:ext cx="107928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A618-3572-430B-94FB-38BBBABB19F6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7" name="" descr=""/>
          <p:cNvPicPr/>
          <p:nvPr/>
        </p:nvPicPr>
        <p:blipFill>
          <a:blip r:embed="rId3"/>
          <a:srcRect l="4784" t="20067" r="2734" b="5017"/>
          <a:stretch/>
        </p:blipFill>
        <p:spPr>
          <a:xfrm>
            <a:off x="7289640" y="6327720"/>
            <a:ext cx="1598760" cy="53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476360" y="2733480"/>
            <a:ext cx="7416720" cy="76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1476360" y="3789360"/>
            <a:ext cx="741672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53"/>
          </p:nvPr>
        </p:nvSpPr>
        <p:spPr>
          <a:xfrm>
            <a:off x="108000" y="6381720"/>
            <a:ext cx="10792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sldNum" idx="54"/>
          </p:nvPr>
        </p:nvSpPr>
        <p:spPr>
          <a:xfrm>
            <a:off x="108000" y="6049800"/>
            <a:ext cx="107928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9922-4CFD-4856-AF89-C75857479ACA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8" name="" descr=""/>
          <p:cNvPicPr/>
          <p:nvPr/>
        </p:nvPicPr>
        <p:blipFill>
          <a:blip r:embed="rId3"/>
          <a:srcRect l="4784" t="20067" r="2734" b="5017"/>
          <a:stretch/>
        </p:blipFill>
        <p:spPr>
          <a:xfrm>
            <a:off x="7289640" y="6327720"/>
            <a:ext cx="1598760" cy="53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1476360" y="2733480"/>
            <a:ext cx="7416720" cy="76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1476360" y="3789360"/>
            <a:ext cx="741672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 type="dt" idx="55"/>
          </p:nvPr>
        </p:nvSpPr>
        <p:spPr>
          <a:xfrm>
            <a:off x="108000" y="6381720"/>
            <a:ext cx="10792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 type="sldNum" idx="56"/>
          </p:nvPr>
        </p:nvSpPr>
        <p:spPr>
          <a:xfrm>
            <a:off x="108000" y="6049800"/>
            <a:ext cx="107928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F8CA-96FA-4135-A085-ECD99351345D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9" name="" descr=""/>
          <p:cNvPicPr/>
          <p:nvPr/>
        </p:nvPicPr>
        <p:blipFill>
          <a:blip r:embed="rId3"/>
          <a:srcRect l="4784" t="20067" r="2734" b="5017"/>
          <a:stretch/>
        </p:blipFill>
        <p:spPr>
          <a:xfrm>
            <a:off x="7289640" y="6327720"/>
            <a:ext cx="1598760" cy="53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1476360" y="2733480"/>
            <a:ext cx="7416720" cy="76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1476360" y="3789360"/>
            <a:ext cx="741672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253800" indent="-2538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 type="dt" idx="57"/>
          </p:nvPr>
        </p:nvSpPr>
        <p:spPr>
          <a:xfrm>
            <a:off x="108000" y="6381720"/>
            <a:ext cx="10792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 type="sldNum" idx="58"/>
          </p:nvPr>
        </p:nvSpPr>
        <p:spPr>
          <a:xfrm>
            <a:off x="108000" y="6049800"/>
            <a:ext cx="107928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ED54-D989-43CA-9E78-695906B97285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0" name="" descr=""/>
          <p:cNvPicPr/>
          <p:nvPr/>
        </p:nvPicPr>
        <p:blipFill>
          <a:blip r:embed="rId3"/>
          <a:srcRect l="4784" t="20067" r="2734" b="5017"/>
          <a:stretch/>
        </p:blipFill>
        <p:spPr>
          <a:xfrm>
            <a:off x="7289640" y="6327720"/>
            <a:ext cx="1598760" cy="53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76360" y="2733480"/>
            <a:ext cx="7416720" cy="76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476360" y="3789000"/>
            <a:ext cx="7416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4"/>
          </p:nvPr>
        </p:nvSpPr>
        <p:spPr>
          <a:xfrm>
            <a:off x="108000" y="6381720"/>
            <a:ext cx="10792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5"/>
          </p:nvPr>
        </p:nvSpPr>
        <p:spPr>
          <a:xfrm>
            <a:off x="108000" y="6049800"/>
            <a:ext cx="107928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05BF-FC36-4732-9328-E8EEA85C6BF4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76360" y="2733480"/>
            <a:ext cx="7416720" cy="76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76360" y="3789000"/>
            <a:ext cx="7416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6"/>
          </p:nvPr>
        </p:nvSpPr>
        <p:spPr>
          <a:xfrm>
            <a:off x="108000" y="6381720"/>
            <a:ext cx="10792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sldNum" idx="7"/>
          </p:nvPr>
        </p:nvSpPr>
        <p:spPr>
          <a:xfrm>
            <a:off x="108000" y="6049800"/>
            <a:ext cx="107928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C8BD-9FF3-43F7-A34E-DBB8CD5F7A51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76360" y="2733480"/>
            <a:ext cx="7416720" cy="76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1476360" y="3789000"/>
            <a:ext cx="7416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8"/>
          </p:nvPr>
        </p:nvSpPr>
        <p:spPr>
          <a:xfrm>
            <a:off x="108000" y="6381720"/>
            <a:ext cx="10792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sldNum" idx="9"/>
          </p:nvPr>
        </p:nvSpPr>
        <p:spPr>
          <a:xfrm>
            <a:off x="108000" y="6049800"/>
            <a:ext cx="107928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988F-1A8C-41A9-92BA-46278C961601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76360" y="2733480"/>
            <a:ext cx="7416720" cy="76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476360" y="3789000"/>
            <a:ext cx="7416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0"/>
          </p:nvPr>
        </p:nvSpPr>
        <p:spPr>
          <a:xfrm>
            <a:off x="108000" y="6381720"/>
            <a:ext cx="10792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sldNum" idx="11"/>
          </p:nvPr>
        </p:nvSpPr>
        <p:spPr>
          <a:xfrm>
            <a:off x="108000" y="6049800"/>
            <a:ext cx="107928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9060-B255-4011-B737-7EDCC92F5232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76360" y="2733480"/>
            <a:ext cx="7416720" cy="76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1476360" y="3789000"/>
            <a:ext cx="7416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284400" indent="-2844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2"/>
          </p:nvPr>
        </p:nvSpPr>
        <p:spPr>
          <a:xfrm>
            <a:off x="108000" y="6381720"/>
            <a:ext cx="10792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13"/>
          </p:nvPr>
        </p:nvSpPr>
        <p:spPr>
          <a:xfrm>
            <a:off x="108000" y="6049800"/>
            <a:ext cx="107928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0DC9-538F-4337-8CAF-496B4F5DFF62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3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1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1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1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lissdata.nl/" TargetMode="External"/><Relationship Id="rId3" Type="http://schemas.openxmlformats.org/officeDocument/2006/relationships/slideLayout" Target="../slideLayouts/slideLayout21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4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19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1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1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1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1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1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323640" y="549360"/>
            <a:ext cx="8569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Questasy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echnical Overview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 type="subTitle"/>
          </p:nvPr>
        </p:nvSpPr>
        <p:spPr>
          <a:xfrm>
            <a:off x="2555640" y="1989000"/>
            <a:ext cx="633708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k Am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1476360" y="430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DI 3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1476360" y="1484280"/>
            <a:ext cx="7416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merging standard for data document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ngitudinal stud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ements and relationship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1476360" y="430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DI 3 Relationships in Mod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27" name=""/>
          <p:cNvGrpSpPr/>
          <p:nvPr/>
        </p:nvGrpSpPr>
        <p:grpSpPr>
          <a:xfrm>
            <a:off x="2811600" y="1566720"/>
            <a:ext cx="4676760" cy="4508640"/>
            <a:chOff x="2811600" y="1566720"/>
            <a:chExt cx="4676760" cy="4508640"/>
          </a:xfrm>
        </p:grpSpPr>
        <p:sp>
          <p:nvSpPr>
            <p:cNvPr id="1428" name="_s101416"/>
            <p:cNvSpPr/>
            <p:nvPr/>
          </p:nvSpPr>
          <p:spPr>
            <a:xfrm flipH="1" flipV="1">
              <a:off x="3992400" y="3619080"/>
              <a:ext cx="578160" cy="18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_s101391"/>
            <p:cNvSpPr/>
            <p:nvPr/>
          </p:nvSpPr>
          <p:spPr>
            <a:xfrm>
              <a:off x="2811600" y="2825640"/>
              <a:ext cx="1214280" cy="1214640"/>
            </a:xfrm>
            <a:prstGeom prst="ellipse">
              <a:avLst/>
            </a:prstGeom>
            <a:solidFill>
              <a:srgbClr val="30686f">
                <a:alpha val="50000"/>
              </a:srgbClr>
            </a:solidFill>
            <a:ln w="57240">
              <a:solidFill>
                <a:srgbClr val="3068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Concep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n:m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_s101418"/>
            <p:cNvSpPr/>
            <p:nvPr/>
          </p:nvSpPr>
          <p:spPr>
            <a:xfrm flipH="1">
              <a:off x="4433400" y="4486320"/>
              <a:ext cx="358920" cy="49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_s101417"/>
            <p:cNvSpPr/>
            <p:nvPr/>
          </p:nvSpPr>
          <p:spPr>
            <a:xfrm>
              <a:off x="3471840" y="4861080"/>
              <a:ext cx="1214640" cy="1214280"/>
            </a:xfrm>
            <a:prstGeom prst="ellipse">
              <a:avLst/>
            </a:prstGeom>
            <a:solidFill>
              <a:srgbClr val="ffe66b">
                <a:alpha val="50000"/>
              </a:srgbClr>
            </a:solidFill>
            <a:ln w="57240">
              <a:solidFill>
                <a:srgbClr val="ffe6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Variab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n:m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_s101415"/>
            <p:cNvSpPr/>
            <p:nvPr/>
          </p:nvSpPr>
          <p:spPr>
            <a:xfrm>
              <a:off x="5505480" y="4484520"/>
              <a:ext cx="357120" cy="49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_s101389"/>
            <p:cNvSpPr/>
            <p:nvPr/>
          </p:nvSpPr>
          <p:spPr>
            <a:xfrm>
              <a:off x="5611680" y="4861080"/>
              <a:ext cx="1214640" cy="1214280"/>
            </a:xfrm>
            <a:prstGeom prst="ellipse">
              <a:avLst/>
            </a:prstGeom>
            <a:solidFill>
              <a:srgbClr val="c07c98">
                <a:alpha val="50000"/>
              </a:srgbClr>
            </a:solidFill>
            <a:ln w="57240">
              <a:solidFill>
                <a:srgbClr val="c07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Ques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Construc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1:n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_s101414"/>
            <p:cNvSpPr/>
            <p:nvPr/>
          </p:nvSpPr>
          <p:spPr>
            <a:xfrm flipV="1">
              <a:off x="5724360" y="3619080"/>
              <a:ext cx="579600" cy="18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_s101387"/>
            <p:cNvSpPr/>
            <p:nvPr/>
          </p:nvSpPr>
          <p:spPr>
            <a:xfrm>
              <a:off x="6273720" y="2825640"/>
              <a:ext cx="1214640" cy="121464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Respon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n:1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_s101413"/>
            <p:cNvSpPr/>
            <p:nvPr/>
          </p:nvSpPr>
          <p:spPr>
            <a:xfrm flipV="1">
              <a:off x="5148360" y="27795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_s101385"/>
            <p:cNvSpPr/>
            <p:nvPr/>
          </p:nvSpPr>
          <p:spPr>
            <a:xfrm>
              <a:off x="4541760" y="1566720"/>
              <a:ext cx="1214640" cy="1214640"/>
            </a:xfrm>
            <a:prstGeom prst="ellipse">
              <a:avLst/>
            </a:prstGeom>
            <a:solidFill>
              <a:srgbClr val="399ed3">
                <a:alpha val="50000"/>
              </a:srgbClr>
            </a:solidFill>
            <a:ln w="57240">
              <a:solidFill>
                <a:srgbClr val="399e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Ques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Sche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n:1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_s101384"/>
            <p:cNvSpPr/>
            <p:nvPr/>
          </p:nvSpPr>
          <p:spPr>
            <a:xfrm>
              <a:off x="4541760" y="3389400"/>
              <a:ext cx="1214640" cy="12142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Ques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I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1476360" y="430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DI 3 in Databas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0" name="" descr=""/>
          <p:cNvPicPr/>
          <p:nvPr/>
        </p:nvPicPr>
        <p:blipFill>
          <a:blip r:embed="rId2"/>
          <a:stretch/>
        </p:blipFill>
        <p:spPr>
          <a:xfrm>
            <a:off x="1476360" y="2405160"/>
            <a:ext cx="74167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1476360" y="430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1476360" y="1484280"/>
            <a:ext cx="7416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earcher interf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hinx search engi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1476360" y="430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1476360" y="1484280"/>
            <a:ext cx="7416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99ed3"/>
                </a:solidFill>
                <a:uFillTx/>
                <a:latin typeface="Verdana"/>
                <a:hlinkClick r:id="rId2"/>
              </a:rPr>
              <a:t>www.lissdata.n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1476360" y="430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ata Dissemination Requirement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1476360" y="1484280"/>
            <a:ext cx="7416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ata colle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ltiple languag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syste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 and meta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ministrators and researc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1476360" y="430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ISS Pan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1476360" y="1484280"/>
            <a:ext cx="7416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~5000 households in Netherland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udies conducted on various schedu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atasets prepared on various schedu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arabi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1476360" y="430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lution: Questas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1476360" y="1484280"/>
            <a:ext cx="7416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veloped by CentERda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b applic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 and distribute survey data and metada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1476360" y="430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dministrator Interfa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1476360" y="1484280"/>
            <a:ext cx="7416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load data fi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ter survey metada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 secur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1476360" y="430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searcher Interfa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1476360" y="1484280"/>
            <a:ext cx="7416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rowse and search survey metada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ownload data fi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76" name=""/>
          <p:cNvCxnSpPr>
            <a:stCxn id="1377" idx="2"/>
            <a:endCxn id="1378" idx="0"/>
          </p:cNvCxnSpPr>
          <p:nvPr/>
        </p:nvCxnSpPr>
        <p:spPr>
          <a:xfrm rot="5400000">
            <a:off x="5463000" y="2807280"/>
            <a:ext cx="719640" cy="1388160"/>
          </a:xfrm>
          <a:prstGeom prst="bentConnector3">
            <a:avLst>
              <a:gd name="adj1" fmla="val 49849"/>
            </a:avLst>
          </a:prstGeom>
          <a:ln w="25560">
            <a:solidFill>
              <a:srgbClr val="808080"/>
            </a:solidFill>
            <a:miter/>
          </a:ln>
        </p:spPr>
      </p:cxnSp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1476360" y="430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Questasy Website Integr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80" name=""/>
          <p:cNvCxnSpPr>
            <a:stCxn id="1378" idx="2"/>
            <a:endCxn id="1381" idx="2"/>
          </p:cNvCxnSpPr>
          <p:nvPr/>
        </p:nvCxnSpPr>
        <p:spPr>
          <a:xfrm flipH="1" rot="16200000">
            <a:off x="5352840" y="4644000"/>
            <a:ext cx="362520" cy="81180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1382" name=""/>
          <p:cNvCxnSpPr>
            <a:stCxn id="1383" idx="2"/>
            <a:endCxn id="1381" idx="6"/>
          </p:cNvCxnSpPr>
          <p:nvPr/>
        </p:nvCxnSpPr>
        <p:spPr>
          <a:xfrm rot="5400000">
            <a:off x="7271640" y="4617720"/>
            <a:ext cx="362520" cy="86436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1384" name=""/>
          <p:cNvCxnSpPr>
            <a:stCxn id="1385" idx="2"/>
            <a:endCxn id="1386" idx="0"/>
          </p:cNvCxnSpPr>
          <p:nvPr/>
        </p:nvCxnSpPr>
        <p:spPr>
          <a:xfrm rot="5400000">
            <a:off x="3060000" y="1268280"/>
            <a:ext cx="648360" cy="2089800"/>
          </a:xfrm>
          <a:prstGeom prst="bentConnector3">
            <a:avLst>
              <a:gd name="adj1" fmla="val 50000"/>
            </a:avLst>
          </a:prstGeom>
          <a:ln w="25560">
            <a:solidFill>
              <a:srgbClr val="808080"/>
            </a:solidFill>
            <a:miter/>
          </a:ln>
        </p:spPr>
      </p:cxnSp>
      <p:cxnSp>
        <p:nvCxnSpPr>
          <p:cNvPr id="1387" name=""/>
          <p:cNvCxnSpPr>
            <a:stCxn id="1385" idx="2"/>
            <a:endCxn id="1377" idx="0"/>
          </p:cNvCxnSpPr>
          <p:nvPr/>
        </p:nvCxnSpPr>
        <p:spPr>
          <a:xfrm flipH="1" rot="16200000">
            <a:off x="5148000" y="1269000"/>
            <a:ext cx="648360" cy="2088360"/>
          </a:xfrm>
          <a:prstGeom prst="bentConnector3">
            <a:avLst>
              <a:gd name="adj1" fmla="val 50000"/>
            </a:avLst>
          </a:prstGeom>
          <a:ln w="25560">
            <a:solidFill>
              <a:srgbClr val="808080"/>
            </a:solidFill>
            <a:miter/>
          </a:ln>
        </p:spPr>
      </p:cxnSp>
      <p:cxnSp>
        <p:nvCxnSpPr>
          <p:cNvPr id="1388" name=""/>
          <p:cNvCxnSpPr>
            <a:stCxn id="1386" idx="2"/>
            <a:endCxn id="1389" idx="0"/>
          </p:cNvCxnSpPr>
          <p:nvPr/>
        </p:nvCxnSpPr>
        <p:spPr>
          <a:xfrm flipV="1" rot="10800000">
            <a:off x="2339280" y="3141360"/>
            <a:ext cx="1080" cy="719640"/>
          </a:xfrm>
          <a:prstGeom prst="bentConnector2">
            <a:avLst/>
          </a:prstGeom>
          <a:ln w="25560">
            <a:solidFill>
              <a:srgbClr val="808080"/>
            </a:solidFill>
            <a:miter/>
          </a:ln>
        </p:spPr>
      </p:cxnSp>
      <p:cxnSp>
        <p:nvCxnSpPr>
          <p:cNvPr id="1390" name=""/>
          <p:cNvCxnSpPr>
            <a:stCxn id="1377" idx="2"/>
            <a:endCxn id="1383" idx="0"/>
          </p:cNvCxnSpPr>
          <p:nvPr/>
        </p:nvCxnSpPr>
        <p:spPr>
          <a:xfrm flipH="1" rot="16200000">
            <a:off x="6840360" y="2816640"/>
            <a:ext cx="719640" cy="1369080"/>
          </a:xfrm>
          <a:prstGeom prst="bentConnector3">
            <a:avLst>
              <a:gd name="adj1" fmla="val 49849"/>
            </a:avLst>
          </a:prstGeom>
          <a:ln w="25560">
            <a:solidFill>
              <a:srgbClr val="808080"/>
            </a:solidFill>
            <a:miter/>
          </a:ln>
        </p:spPr>
      </p:cxnSp>
      <p:sp>
        <p:nvSpPr>
          <p:cNvPr id="1391" name=""/>
          <p:cNvSpPr/>
          <p:nvPr/>
        </p:nvSpPr>
        <p:spPr>
          <a:xfrm>
            <a:off x="4067280" y="2492280"/>
            <a:ext cx="4897440" cy="3529080"/>
          </a:xfrm>
          <a:prstGeom prst="rect">
            <a:avLst/>
          </a:prstGeom>
          <a:noFill/>
          <a:ln cap="rnd" w="25560">
            <a:solidFill>
              <a:srgbClr val="30686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7753320" y="566100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686f"/>
                </a:solidFill>
                <a:latin typeface="Verdana"/>
              </a:rPr>
              <a:t>Quest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3492360" y="1484280"/>
            <a:ext cx="1871640" cy="504720"/>
          </a:xfrm>
          <a:prstGeom prst="rect">
            <a:avLst/>
          </a:prstGeom>
          <a:solidFill>
            <a:srgbClr val="ffe6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lissdata.n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1403280" y="2637000"/>
            <a:ext cx="1871640" cy="504720"/>
          </a:xfrm>
          <a:prstGeom prst="rect">
            <a:avLst/>
          </a:prstGeom>
          <a:solidFill>
            <a:srgbClr val="c07c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/liss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4192560" y="3860640"/>
            <a:ext cx="1871640" cy="1008360"/>
          </a:xfrm>
          <a:prstGeom prst="rect">
            <a:avLst/>
          </a:prstGeom>
          <a:solidFill>
            <a:srgbClr val="399e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Resear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xter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5940360" y="4726080"/>
            <a:ext cx="1081080" cy="1008000"/>
          </a:xfrm>
          <a:prstGeom prst="ellipse">
            <a:avLst/>
          </a:prstGeom>
          <a:solidFill>
            <a:srgbClr val="30686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6948360" y="3860640"/>
            <a:ext cx="1871640" cy="1008360"/>
          </a:xfrm>
          <a:prstGeom prst="rect">
            <a:avLst/>
          </a:prstGeom>
          <a:solidFill>
            <a:srgbClr val="399e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Administ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ter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403280" y="3860640"/>
            <a:ext cx="1871640" cy="1008360"/>
          </a:xfrm>
          <a:prstGeom prst="rect">
            <a:avLst/>
          </a:prstGeom>
          <a:solidFill>
            <a:srgbClr val="399e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Web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xter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5580000" y="2637000"/>
            <a:ext cx="1871640" cy="504720"/>
          </a:xfrm>
          <a:prstGeom prst="rect">
            <a:avLst/>
          </a:prstGeom>
          <a:solidFill>
            <a:srgbClr val="c07c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/data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1476360" y="430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Questasy Implement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1476360" y="1484280"/>
            <a:ext cx="7416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VC Architect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del based on DDI 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1476360" y="430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VC Architectur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96" name=""/>
          <p:cNvCxnSpPr>
            <a:stCxn id="1397" idx="2"/>
            <a:endCxn id="1398" idx="2"/>
          </p:cNvCxnSpPr>
          <p:nvPr/>
        </p:nvCxnSpPr>
        <p:spPr>
          <a:xfrm flipH="1" rot="16200000">
            <a:off x="6948360" y="5517720"/>
            <a:ext cx="432720" cy="4327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99" name=""/>
          <p:cNvSpPr/>
          <p:nvPr/>
        </p:nvSpPr>
        <p:spPr>
          <a:xfrm>
            <a:off x="1979640" y="2781360"/>
            <a:ext cx="6985080" cy="3887640"/>
          </a:xfrm>
          <a:prstGeom prst="rect">
            <a:avLst/>
          </a:prstGeom>
          <a:noFill/>
          <a:ln cap="rnd" w="25560">
            <a:solidFill>
              <a:srgbClr val="30686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7753320" y="2781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686f"/>
                </a:solidFill>
                <a:latin typeface="Verdana"/>
              </a:rPr>
              <a:t>Quest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2124000" y="1557360"/>
            <a:ext cx="1871640" cy="649440"/>
          </a:xfrm>
          <a:prstGeom prst="rect">
            <a:avLst/>
          </a:prstGeom>
          <a:solidFill>
            <a:srgbClr val="ffe6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Web Brows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7380360" y="5445000"/>
            <a:ext cx="1081080" cy="1008360"/>
          </a:xfrm>
          <a:prstGeom prst="ellipse">
            <a:avLst/>
          </a:prstGeom>
          <a:solidFill>
            <a:srgbClr val="30686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6012000" y="5013360"/>
            <a:ext cx="1871640" cy="504720"/>
          </a:xfrm>
          <a:prstGeom prst="rect">
            <a:avLst/>
          </a:prstGeom>
          <a:solidFill>
            <a:srgbClr val="399e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4716360" y="4076640"/>
            <a:ext cx="1871640" cy="504720"/>
          </a:xfrm>
          <a:prstGeom prst="rect">
            <a:avLst/>
          </a:prstGeom>
          <a:solidFill>
            <a:srgbClr val="399e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2124000" y="4076640"/>
            <a:ext cx="1871640" cy="504720"/>
          </a:xfrm>
          <a:prstGeom prst="rect">
            <a:avLst/>
          </a:prstGeom>
          <a:solidFill>
            <a:srgbClr val="399e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4716360" y="2997360"/>
            <a:ext cx="1871640" cy="504720"/>
          </a:xfrm>
          <a:prstGeom prst="rect">
            <a:avLst/>
          </a:prstGeom>
          <a:solidFill>
            <a:srgbClr val="399e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5" name=""/>
          <p:cNvCxnSpPr>
            <a:stCxn id="1398" idx="6"/>
            <a:endCxn id="1397" idx="3"/>
          </p:cNvCxnSpPr>
          <p:nvPr/>
        </p:nvCxnSpPr>
        <p:spPr>
          <a:xfrm flipH="1" flipV="1">
            <a:off x="7882920" y="5265000"/>
            <a:ext cx="578520" cy="685080"/>
          </a:xfrm>
          <a:prstGeom prst="bentConnector3">
            <a:avLst>
              <a:gd name="adj1" fmla="val -21108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406" name=""/>
          <p:cNvCxnSpPr>
            <a:stCxn id="1397" idx="0"/>
            <a:endCxn id="1402" idx="3"/>
          </p:cNvCxnSpPr>
          <p:nvPr/>
        </p:nvCxnSpPr>
        <p:spPr>
          <a:xfrm flipV="1" rot="16200000">
            <a:off x="6425280" y="4490280"/>
            <a:ext cx="685080" cy="3610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407" name=""/>
          <p:cNvCxnSpPr>
            <a:stCxn id="1402" idx="2"/>
            <a:endCxn id="1397" idx="1"/>
          </p:cNvCxnSpPr>
          <p:nvPr/>
        </p:nvCxnSpPr>
        <p:spPr>
          <a:xfrm flipH="1" rot="16200000">
            <a:off x="5489280" y="4743720"/>
            <a:ext cx="685080" cy="35964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408" name=""/>
          <p:cNvSpPr/>
          <p:nvPr/>
        </p:nvSpPr>
        <p:spPr>
          <a:xfrm>
            <a:off x="2124000" y="2997360"/>
            <a:ext cx="1871640" cy="504720"/>
          </a:xfrm>
          <a:prstGeom prst="rect">
            <a:avLst/>
          </a:prstGeom>
          <a:solidFill>
            <a:srgbClr val="399e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ispat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9" name=""/>
          <p:cNvCxnSpPr>
            <a:stCxn id="1403" idx="3"/>
            <a:endCxn id="1402" idx="1"/>
          </p:cNvCxnSpPr>
          <p:nvPr/>
        </p:nvCxnSpPr>
        <p:spPr>
          <a:xfrm>
            <a:off x="3995640" y="4328640"/>
            <a:ext cx="721440" cy="10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410" name=""/>
          <p:cNvCxnSpPr>
            <a:stCxn id="1408" idx="2"/>
            <a:endCxn id="1403" idx="0"/>
          </p:cNvCxnSpPr>
          <p:nvPr/>
        </p:nvCxnSpPr>
        <p:spPr>
          <a:xfrm flipV="1" rot="10800000">
            <a:off x="3060000" y="3501720"/>
            <a:ext cx="1080" cy="5752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411" name=""/>
          <p:cNvCxnSpPr>
            <a:stCxn id="1402" idx="0"/>
            <a:endCxn id="1404" idx="2"/>
          </p:cNvCxnSpPr>
          <p:nvPr/>
        </p:nvCxnSpPr>
        <p:spPr>
          <a:xfrm flipV="1">
            <a:off x="5652720" y="3501720"/>
            <a:ext cx="1080" cy="5752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412" name=""/>
          <p:cNvCxnSpPr>
            <a:stCxn id="1401" idx="2"/>
            <a:endCxn id="1408" idx="0"/>
          </p:cNvCxnSpPr>
          <p:nvPr/>
        </p:nvCxnSpPr>
        <p:spPr>
          <a:xfrm flipV="1" rot="10800000">
            <a:off x="3060000" y="2206440"/>
            <a:ext cx="1080" cy="7912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413" name=""/>
          <p:cNvCxnSpPr>
            <a:stCxn id="1404" idx="0"/>
            <a:endCxn id="1401" idx="3"/>
          </p:cNvCxnSpPr>
          <p:nvPr/>
        </p:nvCxnSpPr>
        <p:spPr>
          <a:xfrm flipV="1" rot="16200000">
            <a:off x="4266720" y="1610640"/>
            <a:ext cx="1115280" cy="16581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414" name=""/>
          <p:cNvSpPr/>
          <p:nvPr/>
        </p:nvSpPr>
        <p:spPr>
          <a:xfrm>
            <a:off x="1979640" y="2349360"/>
            <a:ext cx="4680000" cy="289080"/>
          </a:xfrm>
          <a:prstGeom prst="rect">
            <a:avLst/>
          </a:prstGeom>
          <a:solidFill>
            <a:srgbClr val="c07c9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2916360" y="2349360"/>
            <a:ext cx="288720" cy="287640"/>
          </a:xfrm>
          <a:prstGeom prst="ellipse">
            <a:avLst/>
          </a:prstGeom>
          <a:solidFill>
            <a:srgbClr val="ffe6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2916360" y="3646440"/>
            <a:ext cx="288720" cy="287280"/>
          </a:xfrm>
          <a:prstGeom prst="ellipse">
            <a:avLst/>
          </a:prstGeom>
          <a:solidFill>
            <a:srgbClr val="ffe6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4211640" y="4149720"/>
            <a:ext cx="289080" cy="287280"/>
          </a:xfrm>
          <a:prstGeom prst="ellipse">
            <a:avLst/>
          </a:prstGeom>
          <a:solidFill>
            <a:srgbClr val="ffe6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508720" y="4797360"/>
            <a:ext cx="288720" cy="287280"/>
          </a:xfrm>
          <a:prstGeom prst="ellipse">
            <a:avLst/>
          </a:prstGeom>
          <a:solidFill>
            <a:srgbClr val="ffe6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6804000" y="5589720"/>
            <a:ext cx="289080" cy="287280"/>
          </a:xfrm>
          <a:prstGeom prst="ellipse">
            <a:avLst/>
          </a:prstGeom>
          <a:solidFill>
            <a:srgbClr val="ffe6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8459640" y="5445000"/>
            <a:ext cx="289080" cy="287640"/>
          </a:xfrm>
          <a:prstGeom prst="ellipse">
            <a:avLst/>
          </a:prstGeom>
          <a:solidFill>
            <a:srgbClr val="ffe6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6804000" y="4510080"/>
            <a:ext cx="289080" cy="287280"/>
          </a:xfrm>
          <a:prstGeom prst="ellipse">
            <a:avLst/>
          </a:prstGeom>
          <a:solidFill>
            <a:srgbClr val="ffe6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508720" y="3645000"/>
            <a:ext cx="288720" cy="287280"/>
          </a:xfrm>
          <a:prstGeom prst="ellipse">
            <a:avLst/>
          </a:prstGeom>
          <a:solidFill>
            <a:srgbClr val="ffe6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5508720" y="2349360"/>
            <a:ext cx="288720" cy="287640"/>
          </a:xfrm>
          <a:prstGeom prst="ellipse">
            <a:avLst/>
          </a:prstGeom>
          <a:solidFill>
            <a:srgbClr val="ffe6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3:02:52Z</dcterms:created>
  <dc:creator>AA</dc:creator>
  <dc:description/>
  <dc:language>en-US</dc:language>
  <cp:lastModifiedBy>ASA</cp:lastModifiedBy>
  <dcterms:modified xsi:type="dcterms:W3CDTF">2009-04-03T07:28:53Z</dcterms:modified>
  <cp:revision>159</cp:revision>
  <dc:subject/>
  <dc:title>Questasy Overview</dc:title>
</cp:coreProperties>
</file>