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marL="216000"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nl-N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9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nl-N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0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nl-N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4E95E6D0-58DA-4C9B-9920-13CC75EC399A}" type="slidenum">
              <a:rPr b="0" lang="nl-NL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llaborative efforts, fitting pieces togeh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len sharing data and the elementary parts of an EP. It just is’nt translab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1BB7-E231-454C-9A1A-5AF2A0F47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61960" y="369360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E758-C17B-4946-BD56-76033B35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5892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8373-9D28-45D0-B1B2-A478E71C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368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504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6196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368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4504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39A48-0A7A-422F-8FE6-08EC5A2F20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5CED1-4BF6-4AAE-A69E-B8C4E9E307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1960" y="10666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36FE4-B683-4BE6-AEB6-93FB3491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AD8BF-DC50-4F8E-B4EC-D0F17DBE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B354F-88DE-4FFD-B7CE-5FA8C65D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EFF05-636D-4251-890D-13951598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960" y="-360"/>
            <a:ext cx="6629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DC530-FE1B-451E-B6B4-8E1FBD0B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C6111-A3F5-42A4-A6CB-3DAFBF4E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61960" y="10666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C481-B753-41C2-92B8-001BB7F4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5892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F64B3-F625-4191-BCD6-B47C2767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A7ED6-AABB-4C46-86CB-0BA845D9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1960" y="369360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539D8-443B-42FB-94E7-6993FF47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5892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3F6E3-39EE-4545-B6AC-6D771578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368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504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196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368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84504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DDEAB-E058-4E1E-A822-466A3B7426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7577-FB21-4EDC-99F0-3BE50A2D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361960" y="10666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A01E-4877-4F56-9C09-CDE4C69A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7C43-FA45-4423-9404-EE8E37C6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3F34-632A-4AA4-B663-A1427487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B1BA-1D75-4B12-BE3D-DE26ECF5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0DE52-13F4-4853-8E99-76B4D57C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361960" y="-360"/>
            <a:ext cx="6629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6A07-7FDF-4AAC-8D8E-F6E2E389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6BEE-5AD3-4201-931A-6F1C4D5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5892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148F-6E78-499B-BF89-677C32BC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7CAA-06A9-4505-A60D-10010A60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361960" y="369360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4DBB-122E-47F2-8267-1ECDE698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75892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5A67-34C5-4C4C-81D3-8AB86BB0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0368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4504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36196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60368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84504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8E15-3D00-4456-A094-6326D7E7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361960" y="10666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3DC4-06D8-412C-8235-50C234FF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361960" y="-360"/>
            <a:ext cx="6629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5892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361960" y="369360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75892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0368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45040" y="106668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36196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60368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845040" y="3693600"/>
            <a:ext cx="213444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1824-9395-41E3-8940-6331E263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-360"/>
            <a:ext cx="6629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98E51-DA39-4D95-B64E-ECDFE38C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6BFE-A113-4A1C-8BC4-4B444958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58920" y="369360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5127-70C2-461F-9868-272FD9B7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58920" y="1066680"/>
            <a:ext cx="323496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1960" y="3693600"/>
            <a:ext cx="6629400" cy="23986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08B7-FCA4-4949-88E0-86E5BC73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1360" y="225360"/>
            <a:ext cx="7721280" cy="841320"/>
            <a:chOff x="711360" y="225360"/>
            <a:chExt cx="7721280" cy="841320"/>
          </a:xfrm>
        </p:grpSpPr>
        <p:sp>
          <p:nvSpPr>
            <p:cNvPr id="1" name=""/>
            <p:cNvSpPr/>
            <p:nvPr/>
          </p:nvSpPr>
          <p:spPr>
            <a:xfrm>
              <a:off x="711360" y="1066680"/>
              <a:ext cx="772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3481920" y="225360"/>
              <a:ext cx="21888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720A-F52C-4550-89B7-97372A576E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1360" y="1674720"/>
            <a:ext cx="772128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711360" y="6276600"/>
            <a:ext cx="1930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603840" y="627660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F93B-68E4-483E-8947-40654E7E2F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11360" y="210960"/>
            <a:ext cx="7721280" cy="841320"/>
            <a:chOff x="711360" y="210960"/>
            <a:chExt cx="7721280" cy="841320"/>
          </a:xfrm>
        </p:grpSpPr>
        <p:sp>
          <p:nvSpPr>
            <p:cNvPr id="47" name=""/>
            <p:cNvSpPr/>
            <p:nvPr/>
          </p:nvSpPr>
          <p:spPr>
            <a:xfrm>
              <a:off x="711360" y="1052280"/>
              <a:ext cx="772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481920" y="210960"/>
              <a:ext cx="21888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87" name=""/>
            <p:cNvSpPr/>
            <p:nvPr/>
          </p:nvSpPr>
          <p:spPr>
            <a:xfrm>
              <a:off x="2133720" y="0"/>
              <a:ext cx="380880" cy="812880"/>
            </a:xfrm>
            <a:prstGeom prst="rect">
              <a:avLst/>
            </a:prstGeom>
            <a:solidFill>
              <a:srgbClr val="b38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812880"/>
              <a:ext cx="9144000" cy="360360"/>
            </a:xfrm>
            <a:prstGeom prst="rect">
              <a:avLst/>
            </a:prstGeom>
            <a:solidFill>
              <a:srgbClr val="b38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3720" y="838080"/>
              <a:ext cx="380880" cy="6019920"/>
            </a:xfrm>
            <a:prstGeom prst="rect">
              <a:avLst/>
            </a:prstGeom>
            <a:solidFill>
              <a:srgbClr val="032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8240" y="838080"/>
              <a:ext cx="6935760" cy="6021360"/>
            </a:xfrm>
            <a:prstGeom prst="rect">
              <a:avLst/>
            </a:prstGeom>
            <a:solidFill>
              <a:srgbClr val="032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8240" y="0"/>
              <a:ext cx="6935760" cy="812880"/>
            </a:xfrm>
            <a:prstGeom prst="rect">
              <a:avLst/>
            </a:prstGeom>
            <a:solidFill>
              <a:srgbClr val="b38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2192400" cy="81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838080"/>
              <a:ext cx="2192400" cy="6019920"/>
            </a:xfrm>
            <a:prstGeom prst="rect">
              <a:avLst/>
            </a:prstGeom>
            <a:solidFill>
              <a:srgbClr val="355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136440" y="152280"/>
              <a:ext cx="194004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361960" y="10666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marL="343080" indent="-34308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ts val="25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ts val="25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00100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696F-0204-45BF-A61B-8A5A63F5300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2362320" y="64008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37" name="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b38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244520"/>
              <a:ext cx="9144000" cy="5614920"/>
            </a:xfrm>
            <a:prstGeom prst="rect">
              <a:avLst/>
            </a:prstGeom>
            <a:solidFill>
              <a:srgbClr val="003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9144000" cy="12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819520" y="192240"/>
              <a:ext cx="3504960" cy="80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driver2.dans.knaw.nl/demonstrator/html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drcwww.uvt.nl/~place/SamenInDelen" TargetMode="External"/><Relationship Id="rId2" Type="http://schemas.openxmlformats.org/officeDocument/2006/relationships/hyperlink" Target="http://drcwww.uvt.nl/~place/SamenInDelen" TargetMode="External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1360" y="1674720"/>
            <a:ext cx="772128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hanced Publication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for ODaF Europe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422360" y="3112920"/>
            <a:ext cx="64008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April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4149720"/>
            <a:ext cx="2700360" cy="28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entities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mantic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entities are digital objects (atomic, 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ersioning, prov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E in sh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E: Object Reuse and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of compound objects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ng new objects on the basis of web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to Semantic Web and especially to Linked Data (RDF Lite over HT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words of Herbert Van de Somp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bject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ggregation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b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roach: Publis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source Map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 the Web that Instantiate, Describe, and Identify Aggr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bject Reuse and Exchange: Towards a Machine-Readabl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2200320"/>
            <a:ext cx="9144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321600" y="0"/>
            <a:ext cx="2822400" cy="8319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c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24000" y="136440"/>
            <a:ext cx="1590480" cy="628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00000" y="404640"/>
            <a:ext cx="1152720" cy="287640"/>
          </a:xfrm>
          <a:prstGeom prst="rect">
            <a:avLst/>
          </a:prstGeom>
          <a:solidFill>
            <a:srgbClr val="0c2577"/>
          </a:solidFill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42920" y="-27000"/>
            <a:ext cx="80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Enhanced Publication as an O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965240" y="1341360"/>
            <a:ext cx="54864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II: M4.1 Datasets &amp; Demonstrator for Enhanced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monstrator is available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4168"/>
                </a:solidFill>
                <a:uFillTx/>
                <a:latin typeface="Arial"/>
                <a:hlinkClick r:id="rId1"/>
              </a:rPr>
              <a:t>http://driver2.dans.knaw.nl/demonstrator/html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n: driver2 / bijrij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: Firefox 3.0 and Java 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AI-ORE v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S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SS and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-390600" y="0"/>
            <a:ext cx="992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775640" cy="71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17600" y="-66600"/>
            <a:ext cx="830736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hanced Pub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gital publication enhanced or enriched by extra digital content, e.g., by the corresponding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gital publication and the extra content form a compound digit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onents of a compound digital object are digital objects that can b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rib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of distributed digit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package of digital objects by-value, but by-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-252360" y="189000"/>
            <a:ext cx="97106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amenInDelen Demonstrator,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ReMs li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404720" y="475920"/>
            <a:ext cx="7738920" cy="532908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marL="457200" indent="0">
              <a:lnSpc>
                <a:spcPts val="25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bjectives SURF-project  “Samen in Delen’’ (”Together in Sharing”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reate 6 enhanced publications, for 3 types of research data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urvey data (wp1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xperimental economics (wp 2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inancial data (wp3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valuate DDI 3.0 in the context of EP ‘s (wp4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reate a sustainable environment for EP’s (wp5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45720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mitment, procedures, infrastructu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t up a demonstrator for EP’s (wp6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ntroduction: objectives and partner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195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ree types of aggregation (CO’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68360" y="836280"/>
            <a:ext cx="6723360" cy="525924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 fontScale="91000"/>
          </a:bodyPr>
          <a:p>
            <a:pPr marL="312120" indent="0">
              <a:lnSpc>
                <a:spcPts val="25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llect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n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public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ts val="25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at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enhanc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 f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at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hanced object f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ts val="25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DI Inst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ub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f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SS f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ts val="2500"/>
              </a:lnSpc>
              <a:spcBef>
                <a:spcPts val="1001"/>
              </a:spcBef>
              <a:buClr>
                <a:srgbClr val="b386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ts val="25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ingredients of the demonstra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14240" y="119700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 fontScale="91000"/>
          </a:bodyPr>
          <a:p>
            <a:pPr marL="312120" indent="-31212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sitory EURotter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sitory UvTil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sitory SamenIn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L representations of 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objects, not in other repo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SL styleshe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(Cocoon: transform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r -&gt; DIDL &amp; DDI -&gt; HTML/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ts val="2500"/>
              </a:lnSpc>
              <a:spcBef>
                <a:spcPts val="1500"/>
              </a:spcBef>
              <a:buClr>
                <a:srgbClr val="b38601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L -&gt; MODS/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ts val="25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menInDelen demonstrat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432000" rIns="90000" tIns="46800" bIns="46800" anchor="t">
            <a:normAutofit/>
          </a:bodyPr>
          <a:p>
            <a:pPr marL="343080" indent="0">
              <a:lnSpc>
                <a:spcPts val="25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c2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b9c299"/>
                </a:solidFill>
                <a:uFillTx/>
                <a:latin typeface="Arial"/>
                <a:hlinkClick r:id="rId2"/>
              </a:rPr>
              <a:t>drcwww.uvt.nl/~place/SamenIn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01120" cy="78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9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284720" y="10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70520" y="2781360"/>
            <a:ext cx="4508640" cy="2806560"/>
            <a:chOff x="2270520" y="2781360"/>
            <a:chExt cx="4508640" cy="2806560"/>
          </a:xfrm>
        </p:grpSpPr>
        <p:sp>
          <p:nvSpPr>
            <p:cNvPr id="191" name=""/>
            <p:cNvSpPr/>
            <p:nvPr/>
          </p:nvSpPr>
          <p:spPr>
            <a:xfrm>
              <a:off x="4160520" y="2781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90680" y="422280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43760" y="422280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ject f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080880" y="3141720"/>
              <a:ext cx="115272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65240" y="3141720"/>
              <a:ext cx="129564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70520" y="474480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hor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5600520" y="4797360"/>
              <a:ext cx="79056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1763640" y="1557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(compound) object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1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4876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antics: types of objects in 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:eu-repo/semantics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veMeta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[1, 2, ..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:eu-repo/semantics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0, 1, 2, ..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:eu-repo/semantics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tart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0,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O propos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em =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:eu-repo/semantics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ed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:eu-repo/semantics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ypes to be ad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hancing publication with data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342160" y="1989000"/>
            <a:ext cx="4508640" cy="2806560"/>
            <a:chOff x="2342160" y="1989000"/>
            <a:chExt cx="4508640" cy="2806560"/>
          </a:xfrm>
        </p:grpSpPr>
        <p:sp>
          <p:nvSpPr>
            <p:cNvPr id="203" name=""/>
            <p:cNvSpPr/>
            <p:nvPr/>
          </p:nvSpPr>
          <p:spPr>
            <a:xfrm>
              <a:off x="4232160" y="1989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2320" y="343044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15400" y="343044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ject f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152520" y="2349360"/>
              <a:ext cx="115272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36880" y="2349360"/>
              <a:ext cx="129564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42160" y="395244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eur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5672160" y="4005000"/>
              <a:ext cx="79056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/>
          <p:cNvSpPr/>
          <p:nvPr/>
        </p:nvSpPr>
        <p:spPr>
          <a:xfrm>
            <a:off x="3853080" y="34290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6160" y="3933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79240" y="3429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2421000"/>
            <a:ext cx="0" cy="10792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9280" y="2276640"/>
            <a:ext cx="2592360" cy="1223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380360" y="4005360"/>
            <a:ext cx="723960" cy="720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79480" y="4743360"/>
            <a:ext cx="77961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belongs to what? Extra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data can be used by other publications. Separate CO for 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for some researchers the data set and the publication belong together; without the publication the data set misses its con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4632480" y="1700280"/>
            <a:ext cx="4509000" cy="2879280"/>
            <a:chOff x="4632480" y="1700280"/>
            <a:chExt cx="4509000" cy="2879280"/>
          </a:xfrm>
        </p:grpSpPr>
        <p:sp>
          <p:nvSpPr>
            <p:cNvPr id="218" name=""/>
            <p:cNvSpPr/>
            <p:nvPr/>
          </p:nvSpPr>
          <p:spPr>
            <a:xfrm>
              <a:off x="6522840" y="1700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3000" y="317916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6080" y="317916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ject f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443200" y="2070000"/>
              <a:ext cx="1152720" cy="110916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27560" y="2070000"/>
              <a:ext cx="1295640" cy="110916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32480" y="37144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7962840" y="3768480"/>
              <a:ext cx="790560" cy="81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181440" y="1773360"/>
            <a:ext cx="4508640" cy="2806560"/>
            <a:chOff x="181440" y="1773360"/>
            <a:chExt cx="4508640" cy="2806560"/>
          </a:xfrm>
        </p:grpSpPr>
        <p:sp>
          <p:nvSpPr>
            <p:cNvPr id="226" name=""/>
            <p:cNvSpPr/>
            <p:nvPr/>
          </p:nvSpPr>
          <p:spPr>
            <a:xfrm>
              <a:off x="2071440" y="1773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1600" y="321480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4680" y="321480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ject f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991800" y="2133720"/>
              <a:ext cx="115272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76160" y="2133720"/>
              <a:ext cx="129564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1440" y="373680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eur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3511440" y="3789360"/>
              <a:ext cx="790560" cy="79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956720" y="3789360"/>
            <a:ext cx="723600" cy="792000"/>
          </a:xfrm>
          <a:prstGeom prst="rect">
            <a:avLst/>
          </a:prstGeom>
          <a:ln w="0">
            <a:noFill/>
          </a:ln>
        </p:spPr>
      </p:pic>
      <p:cxnSp>
        <p:nvCxnSpPr>
          <p:cNvPr id="234" name=""/>
          <p:cNvCxnSpPr>
            <a:stCxn id="226" idx="2"/>
            <a:endCxn id="218" idx="2"/>
          </p:cNvCxnSpPr>
          <p:nvPr/>
        </p:nvCxnSpPr>
        <p:spPr>
          <a:xfrm flipH="1" flipV="1" rot="5400000">
            <a:off x="4583520" y="-32400"/>
            <a:ext cx="73800" cy="4452120"/>
          </a:xfrm>
          <a:prstGeom prst="curvedConnector5">
            <a:avLst>
              <a:gd name="adj1" fmla="val -4671568"/>
              <a:gd name="adj2" fmla="val 50000"/>
              <a:gd name="adj3" fmla="val -4671568"/>
            </a:avLst>
          </a:prstGeom>
          <a:ln w="38160">
            <a:solidFill>
              <a:srgbClr val="99cc00"/>
            </a:solidFill>
            <a:miter/>
            <a:tailEnd len="med" type="stealth" w="med"/>
          </a:ln>
        </p:spPr>
      </p:cxnSp>
      <p:sp>
        <p:nvSpPr>
          <p:cNvPr id="235" name=""/>
          <p:cNvSpPr/>
          <p:nvPr/>
        </p:nvSpPr>
        <p:spPr>
          <a:xfrm>
            <a:off x="324000" y="58053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 can be component of another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on ore:aggregates / ore:isAggregatedBy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771640" y="1916280"/>
            <a:ext cx="367200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c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4000" y="136440"/>
            <a:ext cx="1590480" cy="628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1989000"/>
            <a:ext cx="9144000" cy="19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Driver-II D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Report on Object Models and Functionalitie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404640"/>
            <a:ext cx="1152720" cy="287640"/>
          </a:xfrm>
          <a:prstGeom prst="rect">
            <a:avLst/>
          </a:prstGeom>
          <a:solidFill>
            <a:srgbClr val="0c2577"/>
          </a:solidFill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620640"/>
            <a:ext cx="1152360" cy="287280"/>
          </a:xfrm>
          <a:prstGeom prst="rect">
            <a:avLst/>
          </a:prstGeom>
          <a:solidFill>
            <a:srgbClr val="0c2577"/>
          </a:solidFill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869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URF foundation, 6 November 200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eter Verh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2060640"/>
            <a:ext cx="122400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042920" y="2133720"/>
            <a:ext cx="72723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requirements for the storage and management of enhanced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宋体"/>
              </a:rPr>
              <a:t>Data mo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宋体"/>
              </a:rPr>
              <a:t>Recommendations for serialisation of the data model in RDF/XML using the OAI-OR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c2577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c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136440"/>
            <a:ext cx="1590480" cy="628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00000" y="404640"/>
            <a:ext cx="1152720" cy="287640"/>
          </a:xfrm>
          <a:prstGeom prst="rect">
            <a:avLst/>
          </a:prstGeom>
          <a:solidFill>
            <a:srgbClr val="0c2577"/>
          </a:solidFill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-27000"/>
            <a:ext cx="80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Aims of the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413000"/>
            <a:ext cx="8001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2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26920" y="1628640"/>
            <a:ext cx="7453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nhanced publications are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mpound digital objects which combine ePrints with one or more metadata records, one or more data resources, or any combination of the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c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136440"/>
            <a:ext cx="1590480" cy="628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900000" y="404640"/>
            <a:ext cx="1152720" cy="287640"/>
          </a:xfrm>
          <a:prstGeom prst="rect">
            <a:avLst/>
          </a:prstGeom>
          <a:solidFill>
            <a:srgbClr val="0c2577"/>
          </a:solidFill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-27000"/>
            <a:ext cx="80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1197000"/>
            <a:ext cx="8001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c2577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71640" y="3860640"/>
            <a:ext cx="194328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93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2720" y="5300640"/>
            <a:ext cx="194328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2720" y="537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5300640"/>
            <a:ext cx="194292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00360" y="537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61080" y="5302080"/>
            <a:ext cx="194292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61080" y="5375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50160" y="5157720"/>
            <a:ext cx="194292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522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ompound data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76360" y="4797360"/>
            <a:ext cx="6696000" cy="0"/>
          </a:xfrm>
          <a:prstGeom prst="line">
            <a:avLst/>
          </a:prstGeom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76360" y="4797360"/>
            <a:ext cx="0" cy="503280"/>
          </a:xfrm>
          <a:prstGeom prst="line">
            <a:avLst/>
          </a:prstGeom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4437000"/>
            <a:ext cx="0" cy="863640"/>
          </a:xfrm>
          <a:prstGeom prst="line">
            <a:avLst/>
          </a:prstGeom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24360" y="4797360"/>
            <a:ext cx="0" cy="503280"/>
          </a:xfrm>
          <a:prstGeom prst="line">
            <a:avLst/>
          </a:prstGeom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72360" y="4797360"/>
            <a:ext cx="0" cy="358920"/>
          </a:xfrm>
          <a:prstGeom prst="line">
            <a:avLst/>
          </a:prstGeom>
          <a:ln w="9360">
            <a:solidFill>
              <a:srgbClr val="0c25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2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21:05:08Z</dcterms:created>
  <dc:creator>Thomas Place</dc:creator>
  <dc:description/>
  <dc:language>en-US</dc:language>
  <cp:lastModifiedBy>Workshop</cp:lastModifiedBy>
  <dcterms:modified xsi:type="dcterms:W3CDTF">2009-04-02T10:47:20Z</dcterms:modified>
  <cp:revision>36</cp:revision>
  <dc:subject/>
  <dc:title>Possible ORE applications</dc:title>
</cp:coreProperties>
</file>