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4960" y="662004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@opendatafoundation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20" y="6643800"/>
            <a:ext cx="176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opendatafoundation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327560" y="6546960"/>
            <a:ext cx="49356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662940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0" y="76320"/>
            <a:ext cx="123840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62520" y="115920"/>
            <a:ext cx="1218960" cy="73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orc.org/DataEnclave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king.harvard.edu/projects/repl.s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aF Europe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Data Service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e for the Study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n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nd-3rd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05120" y="1371600"/>
            <a:ext cx="17049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and ongo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C Data Enc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orc.org/DataEnc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enclave (NIST, USDA, Kaufmann, N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DDI DExT (UK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d to DDI-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aF EU and North Americ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SSIST 08, METIS 2008, FedCAsic 08  &amp; 09, Wiesbaden wokshop (DDI/SDMX), Joint Statistical Meetings (Den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Research Data Center, FedStats, Dagstuhl (training at experts), NORC Metadat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SWD Working Paper 57-9 on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Startup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Users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1179 3d edition regi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eb 2.0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Europe and North America user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Research and Collaborativ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SSIST 2009 and other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 / SDMX adoption by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I 3, Standard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S web based converter, Stata reader, DDI3 web based scheme editors (classifications, concepts, universe, etc), ODaF DeXtris 2.0, contributions to the DDI-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w into a group o 15-20 active individual in next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open manage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directo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activities/contributions from members (sustain activities, mailing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perates on about US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K/year + in kind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ncrease revenues from projects (15% over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undi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organization / events will require larger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aF 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DaF Europe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in research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aF EU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: production, ingestion, archival, digital resources, project,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cyc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od chain: from microdata to aggregated time series / indica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ultipl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, Archival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, Resources, Packaging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, etc.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unstructure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oc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Researcher meta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ata is being discover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 outputs (enhanced publ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knowledge regarding the data and the research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 profile an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ly (past 2-3 years) started to get attention from metadata producers/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, they were busy putting together their own metadata) and specification like the DDI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capture researcher meta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: in the background, by metadata aware softwa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mated: using wizards, quick feedback tools, parsing statistical source code, etc. (requires a small user or administrator interv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: where the user itself provides all the information (like documents its data, describes its public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for the later two cases we need (should) to provide incentives for the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metadata capture is realistic to capture in an RD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losed and we control everything that goes in a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observe the user behavior (automated cap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require some information to  provided as an RDC access/use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the replication standard (Gary King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king.harvard.edu/projects/repl.s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quality of outputs (automated production of documentation/citation, better data consist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aving: data discovery, script generator, document generator, code reuse, citation generato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ation of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review (can be a metadata driven process, simple feedback mechanism can be implemen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 of their work (well documented enhanced publications can be distributed automatically, registered in citations databas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their work by others (and 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s for the RDC and data provider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from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of how the data is begin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of research outputs and seconda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56440" y="3292560"/>
            <a:ext cx="231120" cy="276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a 2009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DSC of IZA: Past, Present and Future [Nikos Askitas, IZ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Hierarchy Assisted News in Economics [Georgios Tassoukis, I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pean Values Study and its metadata: stock taking and the future [Ruud Luijkx, U. Tilbur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RIVER initiative for networking repositories [Wolfram Horstman, DRIV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ublications [Thomas Place, U. Tilbur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pluS Enhanced Publications Editor [Bart van Nieuwburg, CenERDa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ocumentation and Dissemination with Questasy [Alerk Amin, CenERDa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ess and research data [John Doove, SUR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, importance and benefits of SDMX registries [Arofan Gregory, ODaF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 at the European Central Bank [Gerard Salou / Xavier Sosnovsky, EC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Research and Collaborative Center [Pascal Heus, ODaF/NOR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s of the Data Infrastructure in Germany since the end of the 90s [Hilmar Schneider, IZ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aF overview /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A, ongoing projects, enhanced publications, SD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/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pen Data Fou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ODaF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based non-profit organization established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quality, accessibility, discoverability is highly dependent on quality of metadata /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&amp; technology are available, willingness is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ordinated efforts, tools, technology expertise,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aF umbrella to bring together stakeholders and technology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 existing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at national and international levels (global standards an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: NSO, data archives, RDC, academic/research, international organizations, technology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objective (impact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data to support evidence based policy and project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easures the health of nations, crucial given economical climate and population growth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the understanding of data and metadata management standards and technolog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chnological expertise to agencies in their respective area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the information technology gaps by supporting the development of open sour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a central role in networking together individuals and organizations that often work in isolation rather than try to solve common challeng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the production of ope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documented, discoverable, accessible for analysis, respect statistical principles / legislation (priva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, SDMX,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, conference participation, event organization, IASSIS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C Virtual 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development (DExT, DDI-TP, SDMX Brows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repository, DDI Tools, DDI Man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, trainings,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OD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nie Boyko – Past President of the International Association for Social Science Information Service and Technology (IASS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e Gloersen - Head of Information Technology, Statistics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Glushko, PhD - Member of the OASIS Board of Directors, and the founder and leader of Berkeley's Center for Document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fan Gr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G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 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tein Ryssevik (position 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+ individual members (mailing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s at individual level (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ed by other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OD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o Ad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kos Askitas - Institute for the Study of Labour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ra Cannon - Board of Governors of the Federal Reser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lles Collette- Visual Communications, Pan-American Health Organization (W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Gillman - US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ardo Gutentag - Member of the the OASIS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Johanis - Statistics Canada (ret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eme Oakley - Australian Bureau of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Andrew Nelson - Joint Research Centre of the 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 Miller- UK Data Archive / Economic and Social Dat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ne Nickull- Chair, OASIS SOA Reference Architecture 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aj Riecan - United Nations Economic Commission for Europe (UN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rd Salou - European 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 Bo Sundgren, Ph.D - Statistics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dy Thomas - Minnesota Population Center, University of Minnes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dy Watkins - Data Centre Coordinator, Maps, Data and Government Information Centre, Carleton University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aF and XML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llection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ocumentation Initiative (DDI) – survey / administrative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ata and Metadata Exchange standard (SDMX) – aggregated data /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– concept management and semantic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9115 – Geographical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S – packaging/archiving of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S – Archival lifecyc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BRL – busines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lin Core – citation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work on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3:12:23Z</dcterms:created>
  <dc:creator>Pascal Heus</dc:creator>
  <dc:description/>
  <dc:language>en-US</dc:language>
  <cp:lastModifiedBy>Pascal Heus</cp:lastModifiedBy>
  <dcterms:modified xsi:type="dcterms:W3CDTF">2009-04-02T07:14:08Z</dcterms:modified>
  <cp:revision>35</cp:revision>
  <dc:subject/>
  <dc:title>O Europe 2009</dc:title>
</cp:coreProperties>
</file>